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criti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9FD-CBF8-4C1C-803D-C4676DD9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E901-46AA-4E6E-A15F-7923B087940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280D-8F82-46EB-B4C7-759719E45FD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F87-6102-4484-B0E7-B124DB1F021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E7AA-C5CD-4C11-986C-CFACC61EAB3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D52-40BE-4160-9CC1-4E17AD78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BF0-AB27-4351-80F8-EB25682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210-78FE-406C-91BA-36BF7E84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2D4-8A21-4F4E-A3B0-ADF6A02D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C9A-4515-4B18-8E7F-B8F646DA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DC51-DEA7-4F99-8422-ACDCC92F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E3D-2B7D-4726-9397-7C723A57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3E3-937D-48AE-96F9-CC05E8C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FE5-AB75-4C97-B175-A20CFE7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56AD-864F-46D4-B020-DAED59B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6B75-BB05-4A8D-847F-6251793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E67-4C5E-49AF-9A4C-8FA05C0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E7E-2400-4347-8FC0-8F56727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A6C6-90B6-4B73-B47A-63B5FA26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959-C030-4E20-8CE8-2BD4D82B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9B7-6417-4CB9-B443-718B6C0B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9BCF-A481-4F72-8F01-21636A03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979-3F6B-4985-83CE-F8DD08B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D96-71E9-4D62-93A1-C48FF348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1F2-849A-4205-BFD0-F480BD4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65A-AABF-430E-B209-1592DBCD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2AC-C980-4BCA-95E2-736C282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D92-BE41-4D91-AE79-4591E29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EEB-6B8F-454D-8441-47DF9A2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55400" y="-11880"/>
            <a:ext cx="1488600" cy="1424880"/>
            <a:chOff x="7655400" y="-11880"/>
            <a:chExt cx="1488600" cy="1424880"/>
          </a:xfrm>
        </p:grpSpPr>
        <p:grpSp>
          <p:nvGrpSpPr>
            <p:cNvPr id="1" name="Group 3"/>
            <p:cNvGrpSpPr/>
            <p:nvPr/>
          </p:nvGrpSpPr>
          <p:grpSpPr>
            <a:xfrm>
              <a:off x="8324280" y="1085760"/>
              <a:ext cx="522360" cy="327240"/>
              <a:chOff x="8324280" y="1085760"/>
              <a:chExt cx="522360" cy="3272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8324280" y="108576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8511840" y="122868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8444520" y="626760"/>
              <a:ext cx="522360" cy="327240"/>
              <a:chOff x="8444520" y="626760"/>
              <a:chExt cx="522360" cy="3272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8444520" y="62676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632080" y="76968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7680600" y="0"/>
              <a:ext cx="522360" cy="327240"/>
              <a:chOff x="7680600" y="0"/>
              <a:chExt cx="522360" cy="3272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7680600" y="0"/>
                <a:ext cx="522360" cy="327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7868160" y="142920"/>
                <a:ext cx="125640" cy="61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7655400" y="-11880"/>
              <a:ext cx="1488600" cy="990360"/>
              <a:chOff x="7655400" y="-11880"/>
              <a:chExt cx="1488600" cy="990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8024760" y="174960"/>
                <a:ext cx="779040" cy="479520"/>
                <a:chOff x="8024760" y="174960"/>
                <a:chExt cx="779040" cy="47952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8024760" y="174960"/>
                  <a:ext cx="779040" cy="47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8322120" y="350280"/>
                  <a:ext cx="154440" cy="9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7655400" y="-11880"/>
                <a:ext cx="1483560" cy="990360"/>
                <a:chOff x="7655400" y="-11880"/>
                <a:chExt cx="1483560" cy="990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8489880" y="361440"/>
                  <a:ext cx="511920" cy="507960"/>
                  <a:chOff x="8489880" y="361440"/>
                  <a:chExt cx="511920" cy="5079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8462520" y="485280"/>
                    <a:ext cx="3841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780040" y="685080"/>
                    <a:ext cx="20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8472960" y="311760"/>
                  <a:ext cx="646920" cy="492480"/>
                  <a:chOff x="8472960" y="311760"/>
                  <a:chExt cx="646920" cy="49248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8451000" y="443520"/>
                    <a:ext cx="4842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848440" y="618840"/>
                    <a:ext cx="2599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8469360" y="302400"/>
                  <a:ext cx="662040" cy="385920"/>
                  <a:chOff x="8469360" y="302400"/>
                  <a:chExt cx="662040" cy="3859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8460360" y="401400"/>
                    <a:ext cx="462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872200" y="532440"/>
                    <a:ext cx="248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8466840" y="290520"/>
                  <a:ext cx="672120" cy="308160"/>
                  <a:chOff x="8466840" y="290520"/>
                  <a:chExt cx="672120" cy="30816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8467200" y="357480"/>
                    <a:ext cx="4471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886600" y="447120"/>
                    <a:ext cx="2401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8473680" y="281160"/>
                  <a:ext cx="633600" cy="188280"/>
                  <a:chOff x="8473680" y="281160"/>
                  <a:chExt cx="633600" cy="18828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8476200" y="308520"/>
                    <a:ext cx="412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879400" y="345600"/>
                    <a:ext cx="221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8483040" y="274320"/>
                  <a:ext cx="574560" cy="81000"/>
                  <a:chOff x="8483040" y="274320"/>
                  <a:chExt cx="574560" cy="8100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8483400" y="281160"/>
                    <a:ext cx="37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855640" y="276840"/>
                    <a:ext cx="2008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8470080" y="178920"/>
                  <a:ext cx="509040" cy="151560"/>
                  <a:chOff x="8470080" y="178920"/>
                  <a:chExt cx="509040" cy="15156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8470800" y="245520"/>
                    <a:ext cx="3290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795880" y="198360"/>
                    <a:ext cx="176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7803360" y="388440"/>
                  <a:ext cx="511920" cy="508320"/>
                  <a:chOff x="7803360" y="388440"/>
                  <a:chExt cx="511920" cy="5083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7957440" y="512280"/>
                    <a:ext cx="3844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7818480" y="711720"/>
                    <a:ext cx="2062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7674120" y="351000"/>
                  <a:ext cx="647280" cy="492480"/>
                  <a:chOff x="7674120" y="351000"/>
                  <a:chExt cx="647280" cy="4924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7858800" y="482760"/>
                    <a:ext cx="4842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7684920" y="658080"/>
                    <a:ext cx="2599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7662600" y="342000"/>
                  <a:ext cx="662760" cy="385560"/>
                  <a:chOff x="7662600" y="342000"/>
                  <a:chExt cx="662760" cy="3855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7871400" y="441000"/>
                    <a:ext cx="4629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7672680" y="572400"/>
                    <a:ext cx="2484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7655400" y="330480"/>
                  <a:ext cx="671040" cy="307800"/>
                  <a:chOff x="7655400" y="330480"/>
                  <a:chExt cx="671040" cy="30780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7878240" y="397440"/>
                    <a:ext cx="4471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7667280" y="487080"/>
                    <a:ext cx="24012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7687080" y="320760"/>
                  <a:ext cx="633240" cy="187560"/>
                  <a:chOff x="7687080" y="320760"/>
                  <a:chExt cx="633240" cy="1875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7904880" y="348120"/>
                    <a:ext cx="4122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7693200" y="385200"/>
                    <a:ext cx="2214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7736400" y="313560"/>
                  <a:ext cx="574920" cy="81000"/>
                  <a:chOff x="7736400" y="313560"/>
                  <a:chExt cx="574920" cy="8100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7935840" y="320400"/>
                    <a:ext cx="37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7736760" y="315720"/>
                    <a:ext cx="2008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7815960" y="218160"/>
                  <a:ext cx="508680" cy="151920"/>
                  <a:chOff x="7815960" y="218160"/>
                  <a:chExt cx="508680" cy="15192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7994160" y="284760"/>
                    <a:ext cx="329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7822080" y="237600"/>
                    <a:ext cx="17676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7844040" y="164160"/>
                  <a:ext cx="498240" cy="211320"/>
                  <a:chOff x="7844040" y="164160"/>
                  <a:chExt cx="498240" cy="21132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8015400" y="269280"/>
                    <a:ext cx="3286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7851240" y="193320"/>
                    <a:ext cx="1764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7904880" y="88200"/>
                  <a:ext cx="461880" cy="295560"/>
                  <a:chOff x="7904880" y="88200"/>
                  <a:chExt cx="461880" cy="295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8051760" y="248040"/>
                    <a:ext cx="329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7910640" y="130680"/>
                    <a:ext cx="1767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7965360" y="14760"/>
                  <a:ext cx="420840" cy="360720"/>
                  <a:chOff x="7965360" y="14760"/>
                  <a:chExt cx="420840" cy="3607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8082720" y="217800"/>
                    <a:ext cx="3340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7965720" y="66600"/>
                    <a:ext cx="179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8094600" y="3240"/>
                  <a:ext cx="295920" cy="347040"/>
                  <a:chOff x="8094600" y="3240"/>
                  <a:chExt cx="295920" cy="3470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8178120" y="202320"/>
                    <a:ext cx="245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8101800" y="37800"/>
                    <a:ext cx="13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8183880" y="-11880"/>
                  <a:ext cx="229320" cy="355680"/>
                  <a:chOff x="8183880" y="-11880"/>
                  <a:chExt cx="229320" cy="3556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8225640" y="194400"/>
                    <a:ext cx="236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8185320" y="18360"/>
                    <a:ext cx="1267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8443800" y="112680"/>
                  <a:ext cx="496440" cy="216000"/>
                  <a:chOff x="8443800" y="112680"/>
                  <a:chExt cx="496440" cy="2160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8440560" y="220680"/>
                    <a:ext cx="3286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755920" y="142920"/>
                    <a:ext cx="1764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8415720" y="51480"/>
                  <a:ext cx="469800" cy="284760"/>
                  <a:chOff x="8415720" y="51480"/>
                  <a:chExt cx="469800" cy="2847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8403120" y="204480"/>
                    <a:ext cx="3294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701920" y="92160"/>
                    <a:ext cx="1767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8269920" y="208080"/>
                  <a:ext cx="228960" cy="38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8266320" y="38160"/>
                  <a:ext cx="122400" cy="61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8385480" y="-8280"/>
                  <a:ext cx="243360" cy="348480"/>
                  <a:chOff x="8385480" y="-8280"/>
                  <a:chExt cx="243360" cy="3484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8340120" y="198360"/>
                    <a:ext cx="2368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8502840" y="27000"/>
                    <a:ext cx="12708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8391600" y="10080"/>
                  <a:ext cx="381960" cy="335160"/>
                  <a:chOff x="8391600" y="10080"/>
                  <a:chExt cx="381960" cy="3351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8377560" y="191160"/>
                    <a:ext cx="2574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615520" y="42480"/>
                    <a:ext cx="1382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8400960" y="-1080"/>
                  <a:ext cx="87120" cy="324720"/>
                  <a:chOff x="8400960" y="-1080"/>
                  <a:chExt cx="87120" cy="3247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8321040" y="205560"/>
                    <a:ext cx="2124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8405280" y="39960"/>
                    <a:ext cx="11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7891200" y="399960"/>
                  <a:ext cx="439920" cy="552240"/>
                  <a:chOff x="7891200" y="399960"/>
                  <a:chExt cx="439920" cy="5522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7993440" y="538560"/>
                    <a:ext cx="3837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7900920" y="765000"/>
                    <a:ext cx="20592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8044200" y="422640"/>
                  <a:ext cx="299880" cy="549000"/>
                  <a:chOff x="8044200" y="422640"/>
                  <a:chExt cx="299880" cy="54900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8059680" y="560880"/>
                    <a:ext cx="3553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8044920" y="793080"/>
                    <a:ext cx="1904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8196120" y="433440"/>
                  <a:ext cx="178200" cy="532080"/>
                  <a:chOff x="8196120" y="433440"/>
                  <a:chExt cx="178200" cy="5320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8134200" y="570240"/>
                    <a:ext cx="34092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8180280" y="804960"/>
                    <a:ext cx="1828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8467920" y="390960"/>
                  <a:ext cx="458640" cy="543960"/>
                  <a:chOff x="8467920" y="390960"/>
                  <a:chExt cx="458640" cy="54396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8425800" y="526680"/>
                    <a:ext cx="3841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708760" y="747720"/>
                    <a:ext cx="20592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8454960" y="412200"/>
                  <a:ext cx="354960" cy="555120"/>
                  <a:chOff x="8454960" y="412200"/>
                  <a:chExt cx="354960" cy="5551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8391600" y="553320"/>
                    <a:ext cx="3675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610120" y="788040"/>
                    <a:ext cx="196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8434440" y="434880"/>
                  <a:ext cx="248040" cy="543600"/>
                  <a:chOff x="8434440" y="434880"/>
                  <a:chExt cx="248040" cy="5436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8344080" y="581400"/>
                    <a:ext cx="3564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8507520" y="820080"/>
                    <a:ext cx="1911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8415720" y="459000"/>
                  <a:ext cx="143640" cy="504000"/>
                  <a:chOff x="8415720" y="459000"/>
                  <a:chExt cx="143640" cy="5040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8307720" y="592920"/>
                    <a:ext cx="3279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8407440" y="816840"/>
                    <a:ext cx="1760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8291520" y="467640"/>
                  <a:ext cx="138240" cy="492480"/>
                  <a:chOff x="8291520" y="467640"/>
                  <a:chExt cx="138240" cy="492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8227800" y="604080"/>
                    <a:ext cx="320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8253360" y="831240"/>
                    <a:ext cx="1717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8183160" y="531000"/>
                <a:ext cx="129600" cy="32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7948440" y="412560"/>
                <a:ext cx="566640" cy="5133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8458920" y="101160"/>
                <a:ext cx="685080" cy="455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8005680" y="329760"/>
                <a:ext cx="331200" cy="53028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7770240" y="356760"/>
                <a:ext cx="538200" cy="5295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7722720" y="260280"/>
                <a:ext cx="633960" cy="53028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8425440" y="334800"/>
                <a:ext cx="10116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8452080" y="332280"/>
                <a:ext cx="26784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8475840" y="263160"/>
                <a:ext cx="380160" cy="5302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8548560" y="587160"/>
                <a:ext cx="129240" cy="32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8347320" y="478800"/>
                <a:ext cx="117000" cy="186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7687080" y="181080"/>
                <a:ext cx="677520" cy="53028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7878240" y="69840"/>
                <a:ext cx="493200" cy="51336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8404920" y="285120"/>
                <a:ext cx="203400" cy="51372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7797600" y="558000"/>
                <a:ext cx="28908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7934400" y="198720"/>
                <a:ext cx="185760" cy="33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8147160" y="97560"/>
                <a:ext cx="11124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841960" y="507960"/>
                <a:ext cx="268560" cy="356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702280" y="327240"/>
                <a:ext cx="404640" cy="23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717400" y="74880"/>
                <a:ext cx="176760" cy="319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8542440" y="339840"/>
                <a:ext cx="118080" cy="18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8120880" y="334800"/>
                <a:ext cx="117720" cy="18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217-87AF-4244-87AC-806B98FE2AE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4590000" y="-37440"/>
            <a:ext cx="4553280" cy="2881080"/>
            <a:chOff x="4590000" y="-37440"/>
            <a:chExt cx="4553280" cy="2881080"/>
          </a:xfrm>
        </p:grpSpPr>
        <p:grpSp>
          <p:nvGrpSpPr>
            <p:cNvPr id="177" name="Group 3"/>
            <p:cNvGrpSpPr/>
            <p:nvPr/>
          </p:nvGrpSpPr>
          <p:grpSpPr>
            <a:xfrm>
              <a:off x="5550840" y="344520"/>
              <a:ext cx="626400" cy="372240"/>
              <a:chOff x="5550840" y="344520"/>
              <a:chExt cx="626400" cy="3722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5550840" y="344520"/>
                <a:ext cx="626400" cy="372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5775840" y="507240"/>
                <a:ext cx="150840" cy="69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4590000" y="-37440"/>
              <a:ext cx="4553280" cy="2881080"/>
              <a:chOff x="4590000" y="-37440"/>
              <a:chExt cx="4553280" cy="28810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4590000" y="-37440"/>
                <a:ext cx="4537080" cy="2881080"/>
                <a:chOff x="4590000" y="-37440"/>
                <a:chExt cx="4537080" cy="28810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5718240" y="508320"/>
                  <a:ext cx="2384280" cy="1391400"/>
                  <a:chOff x="5718240" y="508320"/>
                  <a:chExt cx="2384280" cy="139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5718240" y="508320"/>
                    <a:ext cx="2384280" cy="139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6629040" y="1017360"/>
                    <a:ext cx="472680" cy="262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4590000" y="-37440"/>
                  <a:ext cx="4537080" cy="2881080"/>
                  <a:chOff x="4590000" y="-37440"/>
                  <a:chExt cx="4537080" cy="28810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7163640" y="1044000"/>
                    <a:ext cx="1535760" cy="1486800"/>
                    <a:chOff x="7163640" y="1044000"/>
                    <a:chExt cx="1535760" cy="14868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7089120" y="140184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8047440" y="1977480"/>
                      <a:ext cx="59832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7094160" y="883080"/>
                    <a:ext cx="1970280" cy="1463040"/>
                    <a:chOff x="7094160" y="883080"/>
                    <a:chExt cx="1970280" cy="14630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7023960" y="1288080"/>
                      <a:ext cx="148140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8240040" y="1797120"/>
                      <a:ext cx="7952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7081200" y="862560"/>
                    <a:ext cx="2021760" cy="1145520"/>
                    <a:chOff x="7081200" y="862560"/>
                    <a:chExt cx="2021760" cy="11455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7050960" y="1167120"/>
                      <a:ext cx="141768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8312760" y="1547280"/>
                      <a:ext cx="7610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7073280" y="833760"/>
                    <a:ext cx="2053800" cy="911160"/>
                    <a:chOff x="7073280" y="833760"/>
                    <a:chExt cx="2053800" cy="9111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7072920" y="1040040"/>
                      <a:ext cx="1369800" cy="21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8356320" y="1299240"/>
                      <a:ext cx="735840" cy="34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7093080" y="812520"/>
                    <a:ext cx="1938960" cy="552600"/>
                    <a:chOff x="7093080" y="812520"/>
                    <a:chExt cx="1938960" cy="5526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7100640" y="896040"/>
                      <a:ext cx="12618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8335800" y="1004760"/>
                      <a:ext cx="6778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7120080" y="795240"/>
                    <a:ext cx="1759680" cy="236880"/>
                    <a:chOff x="7120080" y="795240"/>
                    <a:chExt cx="1759680" cy="236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7121520" y="815040"/>
                      <a:ext cx="114624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8261280" y="802440"/>
                      <a:ext cx="61560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7082280" y="515160"/>
                    <a:ext cx="1555200" cy="450720"/>
                    <a:chOff x="7082280" y="515160"/>
                    <a:chExt cx="1555200" cy="4507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7084440" y="71208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8078400" y="574560"/>
                      <a:ext cx="54072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5052600" y="1123560"/>
                    <a:ext cx="1534680" cy="1486800"/>
                    <a:chOff x="5052600" y="1123560"/>
                    <a:chExt cx="1534680" cy="14868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5545800" y="1481400"/>
                      <a:ext cx="11152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5106240" y="2056680"/>
                      <a:ext cx="598320" cy="40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4651560" y="997560"/>
                    <a:ext cx="1970280" cy="1462680"/>
                    <a:chOff x="4651560" y="997560"/>
                    <a:chExt cx="1970280" cy="14626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5210280" y="1402560"/>
                      <a:ext cx="148140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4680360" y="1911240"/>
                      <a:ext cx="79524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4613400" y="977040"/>
                    <a:ext cx="2021400" cy="1145520"/>
                    <a:chOff x="4613400" y="977040"/>
                    <a:chExt cx="2021400" cy="1145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5246280" y="1281600"/>
                      <a:ext cx="141804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4642200" y="1661400"/>
                      <a:ext cx="7610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4590000" y="948240"/>
                    <a:ext cx="2052720" cy="910800"/>
                    <a:chOff x="4590000" y="948240"/>
                    <a:chExt cx="2052720" cy="9108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5272920" y="1154520"/>
                      <a:ext cx="1369800" cy="21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4624200" y="1413360"/>
                      <a:ext cx="73584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4684680" y="927000"/>
                    <a:ext cx="1938600" cy="553320"/>
                    <a:chOff x="4684680" y="927000"/>
                    <a:chExt cx="1938600" cy="5533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5353200" y="1010520"/>
                      <a:ext cx="1261800" cy="20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4702680" y="1119600"/>
                      <a:ext cx="67788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4836600" y="909720"/>
                    <a:ext cx="1760040" cy="236880"/>
                    <a:chOff x="4836600" y="909720"/>
                    <a:chExt cx="1760040" cy="23688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5448240" y="930240"/>
                      <a:ext cx="114660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4839120" y="916920"/>
                      <a:ext cx="61560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5079240" y="630000"/>
                    <a:ext cx="1554480" cy="450000"/>
                    <a:chOff x="5079240" y="630000"/>
                    <a:chExt cx="1554480" cy="45000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5624280" y="826560"/>
                      <a:ext cx="100692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5096880" y="68940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5166720" y="472320"/>
                    <a:ext cx="1522800" cy="627480"/>
                    <a:chOff x="5166720" y="472320"/>
                    <a:chExt cx="1522800" cy="6274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5691600" y="78228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5187960" y="563040"/>
                      <a:ext cx="54072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5353200" y="248760"/>
                    <a:ext cx="1411200" cy="881280"/>
                    <a:chOff x="5353200" y="248760"/>
                    <a:chExt cx="1411200" cy="8812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5803200" y="72252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5368320" y="380520"/>
                      <a:ext cx="54072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5541120" y="33480"/>
                    <a:ext cx="1282680" cy="1074960"/>
                    <a:chOff x="5541120" y="33480"/>
                    <a:chExt cx="1282680" cy="10749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5898960" y="631440"/>
                      <a:ext cx="10216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5538600" y="194040"/>
                      <a:ext cx="5486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5938200" y="4680"/>
                    <a:ext cx="891000" cy="1014120"/>
                    <a:chOff x="5938200" y="4680"/>
                    <a:chExt cx="891000" cy="101412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6209640" y="583200"/>
                      <a:ext cx="711720" cy="17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5965200" y="101880"/>
                      <a:ext cx="382320" cy="27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6207840" y="-37440"/>
                    <a:ext cx="693360" cy="1037880"/>
                    <a:chOff x="6207840" y="-37440"/>
                    <a:chExt cx="693360" cy="1037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6351120" y="560880"/>
                      <a:ext cx="686520" cy="17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6218280" y="46080"/>
                      <a:ext cx="369000" cy="27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7000920" y="322560"/>
                    <a:ext cx="1516680" cy="644400"/>
                    <a:chOff x="7000920" y="322560"/>
                    <a:chExt cx="1516680" cy="644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6989760" y="64332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956000" y="41616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6915960" y="142920"/>
                    <a:ext cx="1431000" cy="846720"/>
                    <a:chOff x="6915960" y="142920"/>
                    <a:chExt cx="1431000" cy="8467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6876000" y="594360"/>
                      <a:ext cx="100692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7789680" y="269280"/>
                      <a:ext cx="5403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6487200" y="600840"/>
                    <a:ext cx="6642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6465960" y="107640"/>
                    <a:ext cx="3571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6830640" y="-24480"/>
                    <a:ext cx="731880" cy="1014120"/>
                    <a:chOff x="6830640" y="-24480"/>
                    <a:chExt cx="731880" cy="10141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6703560" y="572400"/>
                      <a:ext cx="68688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7192080" y="74880"/>
                      <a:ext cx="36864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6854040" y="23760"/>
                    <a:ext cx="1148400" cy="983160"/>
                    <a:chOff x="6854040" y="23760"/>
                    <a:chExt cx="1148400" cy="9831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6818040" y="550440"/>
                      <a:ext cx="747360" cy="22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7538400" y="115200"/>
                      <a:ext cx="401040" cy="34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6870960" y="-3600"/>
                    <a:ext cx="265320" cy="944640"/>
                    <a:chOff x="6870960" y="-3600"/>
                    <a:chExt cx="265320" cy="9446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6641280" y="595440"/>
                      <a:ext cx="61704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6892200" y="112680"/>
                      <a:ext cx="33120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5318280" y="1156320"/>
                    <a:ext cx="1322640" cy="1615320"/>
                    <a:chOff x="5318280" y="1156320"/>
                    <a:chExt cx="1322640" cy="16153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5655240" y="155628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5355720" y="2211840"/>
                      <a:ext cx="59796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5783040" y="1224720"/>
                    <a:ext cx="902520" cy="1600200"/>
                    <a:chOff x="5783040" y="1224720"/>
                    <a:chExt cx="902520" cy="16002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5854680" y="1622520"/>
                      <a:ext cx="103176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5796360" y="2292120"/>
                      <a:ext cx="553680" cy="40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6247080" y="1258560"/>
                    <a:ext cx="535320" cy="1546920"/>
                    <a:chOff x="6247080" y="1258560"/>
                    <a:chExt cx="535320" cy="15469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6078600" y="1651680"/>
                      <a:ext cx="99000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6209640" y="2329560"/>
                      <a:ext cx="531000" cy="3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7094160" y="1130760"/>
                    <a:ext cx="1373040" cy="1591200"/>
                    <a:chOff x="7094160" y="1130760"/>
                    <a:chExt cx="1373040" cy="15912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6977520" y="1522800"/>
                      <a:ext cx="11152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7826760" y="2162520"/>
                      <a:ext cx="598320" cy="39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7049880" y="1193040"/>
                    <a:ext cx="1064520" cy="1621080"/>
                    <a:chOff x="7049880" y="1193040"/>
                    <a:chExt cx="1064520" cy="16210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6871320" y="1600200"/>
                      <a:ext cx="106740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7525800" y="2280600"/>
                      <a:ext cx="57240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6980400" y="1259640"/>
                    <a:ext cx="744840" cy="1584000"/>
                    <a:chOff x="6980400" y="1259640"/>
                    <a:chExt cx="744840" cy="158400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6722280" y="1681920"/>
                      <a:ext cx="103572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7209720" y="2372760"/>
                      <a:ext cx="5554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6919200" y="1331640"/>
                    <a:ext cx="433800" cy="1465200"/>
                    <a:chOff x="6919200" y="1331640"/>
                    <a:chExt cx="433800" cy="1465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6611400" y="1716480"/>
                      <a:ext cx="95184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6904440" y="2363400"/>
                      <a:ext cx="51120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6536880" y="1357560"/>
                    <a:ext cx="420480" cy="1429920"/>
                    <a:chOff x="6536880" y="1357560"/>
                    <a:chExt cx="420480" cy="1429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6368040" y="1751040"/>
                      <a:ext cx="92988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6432840" y="2406240"/>
                      <a:ext cx="49860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4684320" y="202320"/>
                <a:ext cx="4458960" cy="2372040"/>
                <a:chOff x="4684320" y="202320"/>
                <a:chExt cx="4458960" cy="2372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4684320" y="202320"/>
                  <a:ext cx="4458960" cy="2372040"/>
                  <a:chOff x="4684320" y="202320"/>
                  <a:chExt cx="4458960" cy="2372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7046640" y="294480"/>
                    <a:ext cx="2096640" cy="1323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4941000" y="1035360"/>
                    <a:ext cx="164664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7098120" y="763920"/>
                    <a:ext cx="116460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4683960" y="525600"/>
                    <a:ext cx="2074680" cy="1539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5268600" y="202320"/>
                    <a:ext cx="1510920" cy="149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6881040" y="828360"/>
                    <a:ext cx="623880" cy="149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6094440" y="282960"/>
                    <a:ext cx="34128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7303320" y="988560"/>
                  <a:ext cx="360720" cy="541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4795560" y="218160"/>
              <a:ext cx="4246200" cy="2470320"/>
              <a:chOff x="4795560" y="218160"/>
              <a:chExt cx="4246200" cy="247032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6203880" y="1541160"/>
                <a:ext cx="396000" cy="95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5485320" y="1197720"/>
                <a:ext cx="1733040" cy="14907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5658480" y="957600"/>
                <a:ext cx="1015920" cy="1539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4795200" y="755640"/>
                <a:ext cx="1940760" cy="1539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6944040" y="972360"/>
                <a:ext cx="311040" cy="1539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7025760" y="965160"/>
                <a:ext cx="819720" cy="1539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7320600" y="1704960"/>
                <a:ext cx="396000" cy="95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6703920" y="1390320"/>
                <a:ext cx="360720" cy="54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5023440" y="1620360"/>
                <a:ext cx="886320" cy="98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5440320" y="577800"/>
                <a:ext cx="568440" cy="98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8219160" y="1475280"/>
                <a:ext cx="822600" cy="103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7791840" y="951120"/>
                <a:ext cx="1239840" cy="690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7837560" y="218160"/>
                <a:ext cx="541440" cy="92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6013800" y="974160"/>
                <a:ext cx="360720" cy="54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A4C-3934-4483-B177-610E01F5602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wm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riti.wav"/><Relationship Id="rId2" Type="http://schemas.openxmlformats.org/officeDocument/2006/relationships/audio" Target="../media/criti.wav"/><Relationship Id="rId3" Type="http://schemas.openxmlformats.org/officeDocument/2006/relationships/audio" Target="../media/criti.wav"/><Relationship Id="rId4" Type="http://schemas.openxmlformats.org/officeDocument/2006/relationships/audio" Target="../media/criti.wav"/><Relationship Id="rId5" Type="http://schemas.openxmlformats.org/officeDocument/2006/relationships/audio" Target="../media/criti.wav"/><Relationship Id="rId6" Type="http://schemas.openxmlformats.org/officeDocument/2006/relationships/audio" Target="../media/criti.wav"/><Relationship Id="rId7" Type="http://schemas.openxmlformats.org/officeDocument/2006/relationships/audio" Target="../media/criti.wav"/><Relationship Id="rId8" Type="http://schemas.openxmlformats.org/officeDocument/2006/relationships/audio" Target="../media/criti.wav"/><Relationship Id="rId9" Type="http://schemas.openxmlformats.org/officeDocument/2006/relationships/audio" Target="../media/criti.wav"/><Relationship Id="rId10" Type="http://schemas.openxmlformats.org/officeDocument/2006/relationships/audio" Target="../media/criti.wav"/><Relationship Id="rId11" Type="http://schemas.openxmlformats.org/officeDocument/2006/relationships/audio" Target="../media/criti.wav"/><Relationship Id="rId12" Type="http://schemas.openxmlformats.org/officeDocument/2006/relationships/audio" Target="../media/criti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5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971640" y="1700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Remove these endings from the infinitives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014480" y="27608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put on NEW endings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909720" y="3941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which tell us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O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is doing the action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600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Let’s Conjugate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419640" y="5589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…</a:t>
            </a: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erm, pardon??  Say that again.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982800" y="48340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also </a:t>
            </a:r>
            <a:r>
              <a:rPr b="1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EN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the action takes place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155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1155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115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1155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155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0" dur="1155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2" dur="1155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1155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15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1" dur="1155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3" dur="1155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5" dur="1155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155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155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4" dur="1155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6" dur="1155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9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71640" y="1700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Remove these endings from the infinitives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954000" y="27734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put on NEW ones…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1600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I said..Let’s Conjugate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419640" y="5589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Black"/>
              </a:rPr>
              <a:t>Well…go on…show me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0" name="ask_full_length[1].wav" descr=""/>
          <p:cNvPicPr/>
          <p:nvPr/>
        </p:nvPicPr>
        <p:blipFill>
          <a:blip r:embed="rId1"/>
          <a:stretch/>
        </p:blipFill>
        <p:spPr>
          <a:xfrm>
            <a:off x="7308720" y="6858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982800" y="48340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and also </a:t>
            </a:r>
            <a:r>
              <a:rPr b="1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EN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the action takes place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09720" y="3941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which tell us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 Black"/>
              </a:rPr>
              <a:t>WHO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is doing the action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0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155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2" dur="1155" fill="hold"/>
                                        <p:tgtEl>
                                          <p:spTgt spid="5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4" dur="1155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6" dur="1155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155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1155" fill="hold"/>
                                        <p:tgtEl>
                                          <p:spTgt spid="5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1155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1155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155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155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115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115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155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2" dur="1155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4" dur="115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6" dur="115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7" dur="1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685960" y="47214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103720" y="4699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716960" y="4584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2685960" y="4213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105520" y="418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7710480" y="410040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154480" y="2989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7742160" y="29480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2705040" y="3065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7738920" y="2948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Text Box 23"/>
          <p:cNvSpPr/>
          <p:nvPr/>
        </p:nvSpPr>
        <p:spPr>
          <a:xfrm>
            <a:off x="5145120" y="3000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2724120" y="2479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5141880" y="2467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7748640" y="24447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7738920" y="24368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2652840" y="247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5133960" y="24591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272412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513540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754760" y="1860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7751880" y="1863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7701120" y="359100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Text Box 36"/>
          <p:cNvSpPr/>
          <p:nvPr/>
        </p:nvSpPr>
        <p:spPr>
          <a:xfrm>
            <a:off x="7713720" y="40892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Text Box 37"/>
          <p:cNvSpPr/>
          <p:nvPr/>
        </p:nvSpPr>
        <p:spPr>
          <a:xfrm>
            <a:off x="7707240" y="459432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Text Box 40"/>
          <p:cNvSpPr/>
          <p:nvPr/>
        </p:nvSpPr>
        <p:spPr>
          <a:xfrm>
            <a:off x="2724120" y="1882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atch very carefully..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Text Box 42"/>
          <p:cNvSpPr/>
          <p:nvPr/>
        </p:nvSpPr>
        <p:spPr>
          <a:xfrm>
            <a:off x="1573200" y="8953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Text Box 43"/>
          <p:cNvSpPr/>
          <p:nvPr/>
        </p:nvSpPr>
        <p:spPr>
          <a:xfrm>
            <a:off x="4165560" y="8953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Text Box 44"/>
          <p:cNvSpPr/>
          <p:nvPr/>
        </p:nvSpPr>
        <p:spPr>
          <a:xfrm>
            <a:off x="6900840" y="8953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vivir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Text Box 45"/>
          <p:cNvSpPr/>
          <p:nvPr/>
        </p:nvSpPr>
        <p:spPr>
          <a:xfrm>
            <a:off x="1787400" y="188280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Text Box 46"/>
          <p:cNvSpPr/>
          <p:nvPr/>
        </p:nvSpPr>
        <p:spPr>
          <a:xfrm>
            <a:off x="1787400" y="2479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Text Box 47"/>
          <p:cNvSpPr/>
          <p:nvPr/>
        </p:nvSpPr>
        <p:spPr>
          <a:xfrm>
            <a:off x="2724120" y="3056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Text Box 48"/>
          <p:cNvSpPr/>
          <p:nvPr/>
        </p:nvSpPr>
        <p:spPr>
          <a:xfrm>
            <a:off x="1787400" y="3056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Text Box 49"/>
          <p:cNvSpPr/>
          <p:nvPr/>
        </p:nvSpPr>
        <p:spPr>
          <a:xfrm>
            <a:off x="2614680" y="3708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Text Box 50"/>
          <p:cNvSpPr/>
          <p:nvPr/>
        </p:nvSpPr>
        <p:spPr>
          <a:xfrm>
            <a:off x="1749600" y="3708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Text Box 51"/>
          <p:cNvSpPr/>
          <p:nvPr/>
        </p:nvSpPr>
        <p:spPr>
          <a:xfrm>
            <a:off x="2685960" y="370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Text Box 52"/>
          <p:cNvSpPr/>
          <p:nvPr/>
        </p:nvSpPr>
        <p:spPr>
          <a:xfrm>
            <a:off x="2685960" y="4213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1749600" y="4213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Text Box 54"/>
          <p:cNvSpPr/>
          <p:nvPr/>
        </p:nvSpPr>
        <p:spPr>
          <a:xfrm>
            <a:off x="2685960" y="4716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Text Box 55"/>
          <p:cNvSpPr/>
          <p:nvPr/>
        </p:nvSpPr>
        <p:spPr>
          <a:xfrm>
            <a:off x="1749600" y="4716360"/>
            <a:ext cx="14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5138640" y="1889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4597560" y="1882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Text Box 65"/>
          <p:cNvSpPr/>
          <p:nvPr/>
        </p:nvSpPr>
        <p:spPr>
          <a:xfrm>
            <a:off x="5100480" y="470232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66"/>
          <p:cNvSpPr/>
          <p:nvPr/>
        </p:nvSpPr>
        <p:spPr>
          <a:xfrm>
            <a:off x="4559400" y="469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Text Box 67"/>
          <p:cNvSpPr/>
          <p:nvPr/>
        </p:nvSpPr>
        <p:spPr>
          <a:xfrm>
            <a:off x="5102280" y="4192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68"/>
          <p:cNvSpPr/>
          <p:nvPr/>
        </p:nvSpPr>
        <p:spPr>
          <a:xfrm>
            <a:off x="4559400" y="417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Text Box 69"/>
          <p:cNvSpPr/>
          <p:nvPr/>
        </p:nvSpPr>
        <p:spPr>
          <a:xfrm>
            <a:off x="5095800" y="3656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Text Box 70"/>
          <p:cNvSpPr/>
          <p:nvPr/>
        </p:nvSpPr>
        <p:spPr>
          <a:xfrm>
            <a:off x="4559400" y="3654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Text Box 71"/>
          <p:cNvSpPr/>
          <p:nvPr/>
        </p:nvSpPr>
        <p:spPr>
          <a:xfrm>
            <a:off x="5099040" y="3648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Text Box 75"/>
          <p:cNvSpPr/>
          <p:nvPr/>
        </p:nvSpPr>
        <p:spPr>
          <a:xfrm>
            <a:off x="4597560" y="2989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Text Box 76"/>
          <p:cNvSpPr/>
          <p:nvPr/>
        </p:nvSpPr>
        <p:spPr>
          <a:xfrm>
            <a:off x="4597560" y="2467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Text Box 77"/>
          <p:cNvSpPr/>
          <p:nvPr/>
        </p:nvSpPr>
        <p:spPr>
          <a:xfrm>
            <a:off x="7367760" y="18669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7367760" y="24400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7367760" y="29494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Text Box 82"/>
          <p:cNvSpPr/>
          <p:nvPr/>
        </p:nvSpPr>
        <p:spPr>
          <a:xfrm>
            <a:off x="7329600" y="3576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Text Box 83"/>
          <p:cNvSpPr/>
          <p:nvPr/>
        </p:nvSpPr>
        <p:spPr>
          <a:xfrm>
            <a:off x="7329600" y="40863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Text Box 84"/>
          <p:cNvSpPr/>
          <p:nvPr/>
        </p:nvSpPr>
        <p:spPr>
          <a:xfrm>
            <a:off x="7329600" y="45957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Text Box 86"/>
          <p:cNvSpPr/>
          <p:nvPr/>
        </p:nvSpPr>
        <p:spPr>
          <a:xfrm>
            <a:off x="7697880" y="358452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Text Box 87"/>
          <p:cNvSpPr/>
          <p:nvPr/>
        </p:nvSpPr>
        <p:spPr>
          <a:xfrm>
            <a:off x="533520" y="19303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Text Box 88"/>
          <p:cNvSpPr/>
          <p:nvPr/>
        </p:nvSpPr>
        <p:spPr>
          <a:xfrm>
            <a:off x="216000" y="2463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sing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Text Box 89"/>
          <p:cNvSpPr/>
          <p:nvPr/>
        </p:nvSpPr>
        <p:spPr>
          <a:xfrm>
            <a:off x="0" y="3060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He / She / 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Text Box 90"/>
          <p:cNvSpPr/>
          <p:nvPr/>
        </p:nvSpPr>
        <p:spPr>
          <a:xfrm>
            <a:off x="507960" y="3708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Text Box 91"/>
          <p:cNvSpPr/>
          <p:nvPr/>
        </p:nvSpPr>
        <p:spPr>
          <a:xfrm>
            <a:off x="0" y="42418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plural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Text Box 92"/>
          <p:cNvSpPr/>
          <p:nvPr/>
        </p:nvSpPr>
        <p:spPr>
          <a:xfrm>
            <a:off x="533520" y="47372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e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Text Box 93"/>
          <p:cNvSpPr/>
          <p:nvPr/>
        </p:nvSpPr>
        <p:spPr>
          <a:xfrm>
            <a:off x="1854360" y="1320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cc00"/>
                </a:solidFill>
                <a:latin typeface="Arial Black"/>
              </a:rPr>
              <a:t>to practis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Text Box 94"/>
          <p:cNvSpPr/>
          <p:nvPr/>
        </p:nvSpPr>
        <p:spPr>
          <a:xfrm>
            <a:off x="7201080" y="1320840"/>
            <a:ext cx="13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ffff"/>
                </a:solidFill>
                <a:latin typeface="Arial Black"/>
              </a:rPr>
              <a:t>to liv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Text Box 95"/>
          <p:cNvSpPr/>
          <p:nvPr/>
        </p:nvSpPr>
        <p:spPr>
          <a:xfrm>
            <a:off x="4610160" y="13208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3399"/>
                </a:solidFill>
                <a:latin typeface="Arial Black"/>
              </a:rPr>
              <a:t>to eat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3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3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3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2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7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1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9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7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1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5" dur="2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3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7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2685960" y="47214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5103720" y="4699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716960" y="4584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685960" y="4213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5105520" y="418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7710480" y="410040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5154480" y="2989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7742160" y="29480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705040" y="3065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7738920" y="2948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5145120" y="3000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724120" y="2479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5141880" y="2467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7748640" y="24447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7738920" y="24368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2652840" y="2479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5133960" y="24591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272412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5135400" y="1882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754760" y="1860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7751880" y="1863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7701120" y="359100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713720" y="40892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7707240" y="459432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2724120" y="1882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atch very carefully..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1573200" y="8953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Text Box 29"/>
          <p:cNvSpPr/>
          <p:nvPr/>
        </p:nvSpPr>
        <p:spPr>
          <a:xfrm>
            <a:off x="4165560" y="8953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Text Box 30"/>
          <p:cNvSpPr/>
          <p:nvPr/>
        </p:nvSpPr>
        <p:spPr>
          <a:xfrm>
            <a:off x="6900840" y="8953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vivir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Text Box 31"/>
          <p:cNvSpPr/>
          <p:nvPr/>
        </p:nvSpPr>
        <p:spPr>
          <a:xfrm>
            <a:off x="1787400" y="188280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1787400" y="24796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2724120" y="3056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1787400" y="3056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2614680" y="3708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Text Box 36"/>
          <p:cNvSpPr/>
          <p:nvPr/>
        </p:nvSpPr>
        <p:spPr>
          <a:xfrm>
            <a:off x="1749600" y="3708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Text Box 37"/>
          <p:cNvSpPr/>
          <p:nvPr/>
        </p:nvSpPr>
        <p:spPr>
          <a:xfrm>
            <a:off x="2685960" y="370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2685960" y="4213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Text Box 39"/>
          <p:cNvSpPr/>
          <p:nvPr/>
        </p:nvSpPr>
        <p:spPr>
          <a:xfrm>
            <a:off x="1749600" y="4213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Text Box 40"/>
          <p:cNvSpPr/>
          <p:nvPr/>
        </p:nvSpPr>
        <p:spPr>
          <a:xfrm>
            <a:off x="2685960" y="4716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a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Text Box 41"/>
          <p:cNvSpPr/>
          <p:nvPr/>
        </p:nvSpPr>
        <p:spPr>
          <a:xfrm>
            <a:off x="1749600" y="4716360"/>
            <a:ext cx="14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practic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5138640" y="1889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4597560" y="1882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5100480" y="470232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4559400" y="469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5102280" y="4192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i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4559400" y="417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Text Box 48"/>
          <p:cNvSpPr/>
          <p:nvPr/>
        </p:nvSpPr>
        <p:spPr>
          <a:xfrm>
            <a:off x="5095800" y="3656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mo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Text Box 49"/>
          <p:cNvSpPr/>
          <p:nvPr/>
        </p:nvSpPr>
        <p:spPr>
          <a:xfrm>
            <a:off x="4559400" y="3654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099040" y="3648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4597560" y="2989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Text Box 52"/>
          <p:cNvSpPr/>
          <p:nvPr/>
        </p:nvSpPr>
        <p:spPr>
          <a:xfrm>
            <a:off x="4597560" y="2467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Text Box 53"/>
          <p:cNvSpPr/>
          <p:nvPr/>
        </p:nvSpPr>
        <p:spPr>
          <a:xfrm>
            <a:off x="7367760" y="18669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Text Box 54"/>
          <p:cNvSpPr/>
          <p:nvPr/>
        </p:nvSpPr>
        <p:spPr>
          <a:xfrm>
            <a:off x="7367760" y="24400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Text Box 55"/>
          <p:cNvSpPr/>
          <p:nvPr/>
        </p:nvSpPr>
        <p:spPr>
          <a:xfrm>
            <a:off x="7367760" y="29494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Text Box 56"/>
          <p:cNvSpPr/>
          <p:nvPr/>
        </p:nvSpPr>
        <p:spPr>
          <a:xfrm>
            <a:off x="7329600" y="357660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Text Box 57"/>
          <p:cNvSpPr/>
          <p:nvPr/>
        </p:nvSpPr>
        <p:spPr>
          <a:xfrm>
            <a:off x="7329600" y="40863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Text Box 58"/>
          <p:cNvSpPr/>
          <p:nvPr/>
        </p:nvSpPr>
        <p:spPr>
          <a:xfrm>
            <a:off x="7329600" y="459576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Text Box 59"/>
          <p:cNvSpPr/>
          <p:nvPr/>
        </p:nvSpPr>
        <p:spPr>
          <a:xfrm>
            <a:off x="7697880" y="358452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Text Box 60"/>
          <p:cNvSpPr/>
          <p:nvPr/>
        </p:nvSpPr>
        <p:spPr>
          <a:xfrm>
            <a:off x="533520" y="19303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Text Box 61"/>
          <p:cNvSpPr/>
          <p:nvPr/>
        </p:nvSpPr>
        <p:spPr>
          <a:xfrm>
            <a:off x="216000" y="2463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sing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Text Box 62"/>
          <p:cNvSpPr/>
          <p:nvPr/>
        </p:nvSpPr>
        <p:spPr>
          <a:xfrm>
            <a:off x="0" y="3060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He / She / 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507960" y="3708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0" y="42418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You (plural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3520" y="47372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he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Text Box 66"/>
          <p:cNvSpPr/>
          <p:nvPr/>
        </p:nvSpPr>
        <p:spPr>
          <a:xfrm>
            <a:off x="1854360" y="1320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cc00"/>
                </a:solidFill>
                <a:latin typeface="Arial Black"/>
              </a:rPr>
              <a:t>to practis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Text Box 67"/>
          <p:cNvSpPr/>
          <p:nvPr/>
        </p:nvSpPr>
        <p:spPr>
          <a:xfrm>
            <a:off x="7201080" y="1320840"/>
            <a:ext cx="13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ffff"/>
                </a:solidFill>
                <a:latin typeface="Arial Black"/>
              </a:rPr>
              <a:t>to liv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Text Box 68"/>
          <p:cNvSpPr/>
          <p:nvPr/>
        </p:nvSpPr>
        <p:spPr>
          <a:xfrm>
            <a:off x="4610160" y="13208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3399"/>
                </a:solidFill>
                <a:latin typeface="Arial Black"/>
              </a:rPr>
              <a:t>to eat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2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2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2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2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2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9" dur="2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2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7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2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5" dur="2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9" dur="2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3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7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1" dur="2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5" dur="2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1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320"/>
          <p:cNvSpPr txBox="1"/>
          <p:nvPr/>
        </p:nvSpPr>
        <p:spPr>
          <a:xfrm rot="20245800">
            <a:off x="1245960" y="0"/>
            <a:ext cx="9153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376000"/>
                </a:gradFill>
                <a:latin typeface="Impact"/>
              </a:rPr>
              <a:t>These endings tell us WHEN the action happen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376000"/>
              </a:gradFill>
              <a:latin typeface="Impact"/>
              <a:ea typeface="Impact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076480" y="1847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Text Box 100"/>
          <p:cNvSpPr/>
          <p:nvPr/>
        </p:nvSpPr>
        <p:spPr>
          <a:xfrm>
            <a:off x="4462560" y="1857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Text Box 193"/>
          <p:cNvSpPr/>
          <p:nvPr/>
        </p:nvSpPr>
        <p:spPr>
          <a:xfrm>
            <a:off x="7018200" y="1857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Text Box 202"/>
          <p:cNvSpPr/>
          <p:nvPr/>
        </p:nvSpPr>
        <p:spPr>
          <a:xfrm>
            <a:off x="7021440" y="1851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Text Box 2"/>
          <p:cNvSpPr/>
          <p:nvPr/>
        </p:nvSpPr>
        <p:spPr>
          <a:xfrm>
            <a:off x="208908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8240" y="-17784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Ready for more…??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874800" y="1327320"/>
            <a:ext cx="180000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3467160" y="1327320"/>
            <a:ext cx="180000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6202440" y="1327320"/>
            <a:ext cx="180000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1020600" y="18446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Text Box 98"/>
          <p:cNvSpPr/>
          <p:nvPr/>
        </p:nvSpPr>
        <p:spPr>
          <a:xfrm>
            <a:off x="4465800" y="1857240"/>
            <a:ext cx="4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Text Box 99"/>
          <p:cNvSpPr/>
          <p:nvPr/>
        </p:nvSpPr>
        <p:spPr>
          <a:xfrm>
            <a:off x="3924360" y="185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Text Box 184"/>
          <p:cNvSpPr/>
          <p:nvPr/>
        </p:nvSpPr>
        <p:spPr>
          <a:xfrm>
            <a:off x="6656400" y="18572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Text Box 232"/>
          <p:cNvSpPr/>
          <p:nvPr/>
        </p:nvSpPr>
        <p:spPr>
          <a:xfrm>
            <a:off x="1087560" y="2200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Text Box 233"/>
          <p:cNvSpPr/>
          <p:nvPr/>
        </p:nvSpPr>
        <p:spPr>
          <a:xfrm>
            <a:off x="1496880" y="22003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Text Box 236"/>
          <p:cNvSpPr/>
          <p:nvPr/>
        </p:nvSpPr>
        <p:spPr>
          <a:xfrm>
            <a:off x="6148440" y="21877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Text Box 237"/>
          <p:cNvSpPr/>
          <p:nvPr/>
        </p:nvSpPr>
        <p:spPr>
          <a:xfrm>
            <a:off x="6556320" y="220032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Text Box 238"/>
          <p:cNvSpPr/>
          <p:nvPr/>
        </p:nvSpPr>
        <p:spPr>
          <a:xfrm>
            <a:off x="3672000" y="2200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Text Box 239"/>
          <p:cNvSpPr/>
          <p:nvPr/>
        </p:nvSpPr>
        <p:spPr>
          <a:xfrm>
            <a:off x="4075200" y="220032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Text Box 256"/>
          <p:cNvSpPr/>
          <p:nvPr/>
        </p:nvSpPr>
        <p:spPr>
          <a:xfrm>
            <a:off x="1254240" y="22240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Text Box 258"/>
          <p:cNvSpPr/>
          <p:nvPr/>
        </p:nvSpPr>
        <p:spPr>
          <a:xfrm>
            <a:off x="6316560" y="21985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Text Box 259"/>
          <p:cNvSpPr/>
          <p:nvPr/>
        </p:nvSpPr>
        <p:spPr>
          <a:xfrm>
            <a:off x="3840120" y="22114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Text Box 281"/>
          <p:cNvSpPr/>
          <p:nvPr/>
        </p:nvSpPr>
        <p:spPr>
          <a:xfrm>
            <a:off x="2038320" y="2952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Text Box 282"/>
          <p:cNvSpPr/>
          <p:nvPr/>
        </p:nvSpPr>
        <p:spPr>
          <a:xfrm>
            <a:off x="4424400" y="2962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Text Box 283"/>
          <p:cNvSpPr/>
          <p:nvPr/>
        </p:nvSpPr>
        <p:spPr>
          <a:xfrm>
            <a:off x="6980400" y="296244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Text Box 284"/>
          <p:cNvSpPr/>
          <p:nvPr/>
        </p:nvSpPr>
        <p:spPr>
          <a:xfrm>
            <a:off x="6983280" y="29559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í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Text Box 285"/>
          <p:cNvSpPr/>
          <p:nvPr/>
        </p:nvSpPr>
        <p:spPr>
          <a:xfrm>
            <a:off x="2050920" y="2949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Text Box 286"/>
          <p:cNvSpPr/>
          <p:nvPr/>
        </p:nvSpPr>
        <p:spPr>
          <a:xfrm>
            <a:off x="982800" y="29494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Text Box 287"/>
          <p:cNvSpPr/>
          <p:nvPr/>
        </p:nvSpPr>
        <p:spPr>
          <a:xfrm>
            <a:off x="4427640" y="296244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í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Text Box 288"/>
          <p:cNvSpPr/>
          <p:nvPr/>
        </p:nvSpPr>
        <p:spPr>
          <a:xfrm>
            <a:off x="3886200" y="29624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Text Box 289"/>
          <p:cNvSpPr/>
          <p:nvPr/>
        </p:nvSpPr>
        <p:spPr>
          <a:xfrm>
            <a:off x="6618240" y="296244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Text Box 290"/>
          <p:cNvSpPr/>
          <p:nvPr/>
        </p:nvSpPr>
        <p:spPr>
          <a:xfrm>
            <a:off x="1049400" y="33051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Text Box 291"/>
          <p:cNvSpPr/>
          <p:nvPr/>
        </p:nvSpPr>
        <p:spPr>
          <a:xfrm>
            <a:off x="1459080" y="330516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Text Box 292"/>
          <p:cNvSpPr/>
          <p:nvPr/>
        </p:nvSpPr>
        <p:spPr>
          <a:xfrm>
            <a:off x="6110280" y="32925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Text Box 293"/>
          <p:cNvSpPr/>
          <p:nvPr/>
        </p:nvSpPr>
        <p:spPr>
          <a:xfrm>
            <a:off x="6518160" y="33051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Text Box 294"/>
          <p:cNvSpPr/>
          <p:nvPr/>
        </p:nvSpPr>
        <p:spPr>
          <a:xfrm>
            <a:off x="3633840" y="330516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Text Box 295"/>
          <p:cNvSpPr/>
          <p:nvPr/>
        </p:nvSpPr>
        <p:spPr>
          <a:xfrm>
            <a:off x="4037040" y="33051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Text Box 296"/>
          <p:cNvSpPr/>
          <p:nvPr/>
        </p:nvSpPr>
        <p:spPr>
          <a:xfrm>
            <a:off x="1216080" y="33289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Text Box 297"/>
          <p:cNvSpPr/>
          <p:nvPr/>
        </p:nvSpPr>
        <p:spPr>
          <a:xfrm>
            <a:off x="6278400" y="33037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Text Box 298"/>
          <p:cNvSpPr/>
          <p:nvPr/>
        </p:nvSpPr>
        <p:spPr>
          <a:xfrm>
            <a:off x="3801960" y="3316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Text Box 299"/>
          <p:cNvSpPr/>
          <p:nvPr/>
        </p:nvSpPr>
        <p:spPr>
          <a:xfrm>
            <a:off x="2006640" y="329868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e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Text Box 300"/>
          <p:cNvSpPr/>
          <p:nvPr/>
        </p:nvSpPr>
        <p:spPr>
          <a:xfrm>
            <a:off x="4032360" y="33116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Text Box 301"/>
          <p:cNvSpPr/>
          <p:nvPr/>
        </p:nvSpPr>
        <p:spPr>
          <a:xfrm>
            <a:off x="6966000" y="330516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Text Box 302"/>
          <p:cNvSpPr/>
          <p:nvPr/>
        </p:nvSpPr>
        <p:spPr>
          <a:xfrm>
            <a:off x="1962000" y="4299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Text Box 303"/>
          <p:cNvSpPr/>
          <p:nvPr/>
        </p:nvSpPr>
        <p:spPr>
          <a:xfrm>
            <a:off x="4348080" y="4308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Text Box 304"/>
          <p:cNvSpPr/>
          <p:nvPr/>
        </p:nvSpPr>
        <p:spPr>
          <a:xfrm>
            <a:off x="6904080" y="4308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Text Box 305"/>
          <p:cNvSpPr/>
          <p:nvPr/>
        </p:nvSpPr>
        <p:spPr>
          <a:xfrm>
            <a:off x="6907320" y="4302000"/>
            <a:ext cx="7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Text Box 306"/>
          <p:cNvSpPr/>
          <p:nvPr/>
        </p:nvSpPr>
        <p:spPr>
          <a:xfrm>
            <a:off x="1974960" y="42958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a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Text Box 307"/>
          <p:cNvSpPr/>
          <p:nvPr/>
        </p:nvSpPr>
        <p:spPr>
          <a:xfrm>
            <a:off x="906480" y="42958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Text Box 308"/>
          <p:cNvSpPr/>
          <p:nvPr/>
        </p:nvSpPr>
        <p:spPr>
          <a:xfrm>
            <a:off x="4351320" y="430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eré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Text Box 309"/>
          <p:cNvSpPr/>
          <p:nvPr/>
        </p:nvSpPr>
        <p:spPr>
          <a:xfrm>
            <a:off x="3809880" y="4308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Text Box 310"/>
          <p:cNvSpPr/>
          <p:nvPr/>
        </p:nvSpPr>
        <p:spPr>
          <a:xfrm>
            <a:off x="6541920" y="43084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v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Text Box 311"/>
          <p:cNvSpPr/>
          <p:nvPr/>
        </p:nvSpPr>
        <p:spPr>
          <a:xfrm>
            <a:off x="973080" y="4651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Text Box 312"/>
          <p:cNvSpPr/>
          <p:nvPr/>
        </p:nvSpPr>
        <p:spPr>
          <a:xfrm>
            <a:off x="138276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visi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Text Box 313"/>
          <p:cNvSpPr/>
          <p:nvPr/>
        </p:nvSpPr>
        <p:spPr>
          <a:xfrm>
            <a:off x="6033960" y="46386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Text Box 314"/>
          <p:cNvSpPr/>
          <p:nvPr/>
        </p:nvSpPr>
        <p:spPr>
          <a:xfrm>
            <a:off x="644220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liv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Text Box 315"/>
          <p:cNvSpPr/>
          <p:nvPr/>
        </p:nvSpPr>
        <p:spPr>
          <a:xfrm>
            <a:off x="3557520" y="4651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Text Box 316"/>
          <p:cNvSpPr/>
          <p:nvPr/>
        </p:nvSpPr>
        <p:spPr>
          <a:xfrm>
            <a:off x="3960720" y="465120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Text Box 317"/>
          <p:cNvSpPr/>
          <p:nvPr/>
        </p:nvSpPr>
        <p:spPr>
          <a:xfrm>
            <a:off x="669960" y="466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I wil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Text Box 318"/>
          <p:cNvSpPr/>
          <p:nvPr/>
        </p:nvSpPr>
        <p:spPr>
          <a:xfrm>
            <a:off x="5707080" y="46497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I will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Text Box 319"/>
          <p:cNvSpPr/>
          <p:nvPr/>
        </p:nvSpPr>
        <p:spPr>
          <a:xfrm>
            <a:off x="3281400" y="46623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I wil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WordArt 321"/>
          <p:cNvSpPr txBox="1"/>
          <p:nvPr/>
        </p:nvSpPr>
        <p:spPr>
          <a:xfrm rot="20488200">
            <a:off x="1297080" y="5654160"/>
            <a:ext cx="9153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90000"/>
                </a:gradFill>
                <a:latin typeface="Impact"/>
              </a:rPr>
              <a:t>PAST, PRESENT or FUTU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9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1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3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5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0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2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4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77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9" dur="770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1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3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8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3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3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4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3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0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30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3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6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30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3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2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3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8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3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3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3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3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3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3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3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3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30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3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9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3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3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2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3" dur="3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30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3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30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3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5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30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3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1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3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7" dur="3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3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3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3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77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6" dur="770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8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0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77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6" dur="770" fill="hold"/>
                                        <p:tgtEl>
                                          <p:spTgt spid="7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8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0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o sum up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440" y="1384200"/>
            <a:ext cx="84582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Verbs are …….. wor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verbs are found in the …….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verbs mean ‘……….’ someth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ll Spanish infinitives end in the letter…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here are 3 groups of Spanish verbs: .......,    ……, and  ……. typ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finitive endings are replaced to tell us …..….. does the action and ………… the action is do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nodeType="clickEffect" fill="hold">
                      <p:stCondLst>
                        <p:cond delay="indefinite"/>
                      </p:stCondLst>
                      <p:childTnLst>
                        <p:par>
                          <p:cTn id="2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nodeType="clickEffect" fill="hold">
                      <p:stCondLst>
                        <p:cond delay="indefinite"/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nodeType="clickEffect" fill="hold">
                      <p:stCondLst>
                        <p:cond delay="indefinite"/>
                      </p:stCondLst>
                      <p:childTnLst>
                        <p:par>
                          <p:cTn id="2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10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REGULAR VERB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59280" y="6858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90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at is a verb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 doing w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A verb is a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 Black"/>
              </a:rPr>
              <a:t>DOING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wo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Runn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igh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augh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900000" y="1484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sn003953.wav" descr=""/>
          <p:cNvPicPr/>
          <p:nvPr/>
        </p:nvPicPr>
        <p:blipFill>
          <a:blip r:embed="rId1"/>
          <a:stretch/>
        </p:blipFill>
        <p:spPr>
          <a:xfrm>
            <a:off x="-468360" y="2133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7" name="j0073968.wav" descr=""/>
          <p:cNvPicPr/>
          <p:nvPr/>
        </p:nvPicPr>
        <p:blipFill>
          <a:blip r:embed="rId2"/>
          <a:stretch/>
        </p:blipFill>
        <p:spPr>
          <a:xfrm>
            <a:off x="-468360" y="27082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8" name="SN003968.wav" descr=""/>
          <p:cNvPicPr/>
          <p:nvPr/>
        </p:nvPicPr>
        <p:blipFill>
          <a:blip r:embed="rId3"/>
          <a:stretch/>
        </p:blipFill>
        <p:spPr>
          <a:xfrm>
            <a:off x="-396720" y="3357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69" name="j0073969.wav" descr=""/>
          <p:cNvPicPr/>
          <p:nvPr/>
        </p:nvPicPr>
        <p:blipFill>
          <a:blip r:embed="rId4"/>
          <a:stretch/>
        </p:blipFill>
        <p:spPr>
          <a:xfrm>
            <a:off x="-1044720" y="3789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0" name="j0073970.wav" descr=""/>
          <p:cNvPicPr/>
          <p:nvPr/>
        </p:nvPicPr>
        <p:blipFill>
          <a:blip r:embed="rId5"/>
          <a:stretch/>
        </p:blipFill>
        <p:spPr>
          <a:xfrm>
            <a:off x="-684360" y="3789360"/>
            <a:ext cx="244800" cy="244440"/>
          </a:xfrm>
          <a:prstGeom prst="rect">
            <a:avLst/>
          </a:prstGeom>
          <a:ln w="0">
            <a:noFill/>
          </a:ln>
        </p:spPr>
      </p:pic>
      <p:pic>
        <p:nvPicPr>
          <p:cNvPr id="371" name="j0073971.wav" descr=""/>
          <p:cNvPicPr/>
          <p:nvPr/>
        </p:nvPicPr>
        <p:blipFill>
          <a:blip r:embed="rId6"/>
          <a:stretch/>
        </p:blipFill>
        <p:spPr>
          <a:xfrm>
            <a:off x="-396720" y="3789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2" name="j0073984.wav" descr=""/>
          <p:cNvPicPr/>
          <p:nvPr/>
        </p:nvPicPr>
        <p:blipFill>
          <a:blip r:embed="rId7"/>
          <a:stretch/>
        </p:blipFill>
        <p:spPr>
          <a:xfrm>
            <a:off x="-684360" y="4149720"/>
            <a:ext cx="244800" cy="244440"/>
          </a:xfrm>
          <a:prstGeom prst="rect">
            <a:avLst/>
          </a:prstGeom>
          <a:ln w="0">
            <a:noFill/>
          </a:ln>
        </p:spPr>
      </p:pic>
      <p:pic>
        <p:nvPicPr>
          <p:cNvPr id="373" name="j0073985.wav" descr=""/>
          <p:cNvPicPr/>
          <p:nvPr/>
        </p:nvPicPr>
        <p:blipFill>
          <a:blip r:embed="rId8"/>
          <a:stretch/>
        </p:blipFill>
        <p:spPr>
          <a:xfrm>
            <a:off x="-973080" y="4076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4" name="SN003984.wav" descr=""/>
          <p:cNvPicPr/>
          <p:nvPr/>
        </p:nvPicPr>
        <p:blipFill>
          <a:blip r:embed="rId9"/>
          <a:stretch/>
        </p:blipFill>
        <p:spPr>
          <a:xfrm>
            <a:off x="-541440" y="1628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6" descr="j0212167[1]"/>
          <p:cNvPicPr/>
          <p:nvPr/>
        </p:nvPicPr>
        <p:blipFill>
          <a:blip r:embed="rId10"/>
          <a:stretch/>
        </p:blipFill>
        <p:spPr>
          <a:xfrm>
            <a:off x="4356000" y="1413000"/>
            <a:ext cx="3861000" cy="403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AG00406_"/>
          <p:cNvPicPr/>
          <p:nvPr/>
        </p:nvPicPr>
        <p:blipFill>
          <a:blip r:embed="rId11"/>
          <a:stretch/>
        </p:blipFill>
        <p:spPr>
          <a:xfrm>
            <a:off x="900000" y="400536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AG00287_[1]"/>
          <p:cNvPicPr/>
          <p:nvPr/>
        </p:nvPicPr>
        <p:blipFill>
          <a:blip r:embed="rId12"/>
          <a:stretch/>
        </p:blipFill>
        <p:spPr>
          <a:xfrm>
            <a:off x="10260000" y="1487520"/>
            <a:ext cx="4444920" cy="5370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3" descr="AG00424_[1]"/>
          <p:cNvPicPr/>
          <p:nvPr/>
        </p:nvPicPr>
        <p:blipFill>
          <a:blip r:embed="rId13"/>
          <a:stretch/>
        </p:blipFill>
        <p:spPr>
          <a:xfrm>
            <a:off x="-2470320" y="2637000"/>
            <a:ext cx="2470320" cy="26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78" dur="6787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0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63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18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318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18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36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54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9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07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997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177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8,31,-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4536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roup the following verbs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80" name="Content Placeholder 45095"/>
          <p:cNvGrpSpPr/>
          <p:nvPr/>
        </p:nvGrpSpPr>
        <p:grpSpPr>
          <a:xfrm>
            <a:off x="395280" y="2502000"/>
            <a:ext cx="3667320" cy="3535200"/>
            <a:chOff x="395280" y="2502000"/>
            <a:chExt cx="3667320" cy="3535200"/>
          </a:xfrm>
        </p:grpSpPr>
        <p:sp>
          <p:nvSpPr>
            <p:cNvPr id="381" name="_s1028"/>
            <p:cNvSpPr/>
            <p:nvPr/>
          </p:nvSpPr>
          <p:spPr>
            <a:xfrm flipH="1" flipV="1">
              <a:off x="1322280" y="4113000"/>
              <a:ext cx="453960" cy="14616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2" name="_s1029"/>
            <p:cNvSpPr/>
            <p:nvPr/>
          </p:nvSpPr>
          <p:spPr>
            <a:xfrm>
              <a:off x="395280" y="3490920"/>
              <a:ext cx="952560" cy="95256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3" name="_s1030"/>
            <p:cNvSpPr/>
            <p:nvPr/>
          </p:nvSpPr>
          <p:spPr>
            <a:xfrm flipH="1">
              <a:off x="1670040" y="4790880"/>
              <a:ext cx="279360" cy="3859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4" name="_s1031"/>
            <p:cNvSpPr/>
            <p:nvPr/>
          </p:nvSpPr>
          <p:spPr>
            <a:xfrm>
              <a:off x="916200" y="508464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5" name="_s1032"/>
            <p:cNvSpPr/>
            <p:nvPr/>
          </p:nvSpPr>
          <p:spPr>
            <a:xfrm>
              <a:off x="2508480" y="4790880"/>
              <a:ext cx="280800" cy="3841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6" name="_s1033"/>
            <p:cNvSpPr/>
            <p:nvPr/>
          </p:nvSpPr>
          <p:spPr>
            <a:xfrm>
              <a:off x="2592360" y="508320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7" name="_s1034"/>
            <p:cNvSpPr/>
            <p:nvPr/>
          </p:nvSpPr>
          <p:spPr>
            <a:xfrm flipV="1">
              <a:off x="2681280" y="4111560"/>
              <a:ext cx="452520" cy="14760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8" name="_s1035"/>
            <p:cNvSpPr/>
            <p:nvPr/>
          </p:nvSpPr>
          <p:spPr>
            <a:xfrm>
              <a:off x="3110040" y="3487680"/>
              <a:ext cx="952560" cy="952560"/>
            </a:xfrm>
            <a:prstGeom prst="ellipse">
              <a:avLst/>
            </a:prstGeom>
            <a:noFill/>
            <a:ln w="2844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9" name="_s1036"/>
            <p:cNvSpPr/>
            <p:nvPr/>
          </p:nvSpPr>
          <p:spPr>
            <a:xfrm flipV="1">
              <a:off x="2229120" y="3453840"/>
              <a:ext cx="0" cy="47628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0" name="_s1037"/>
            <p:cNvSpPr/>
            <p:nvPr/>
          </p:nvSpPr>
          <p:spPr>
            <a:xfrm>
              <a:off x="1752840" y="2502000"/>
              <a:ext cx="952200" cy="95220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91" name="_s1038"/>
            <p:cNvSpPr/>
            <p:nvPr/>
          </p:nvSpPr>
          <p:spPr>
            <a:xfrm>
              <a:off x="1752840" y="3930480"/>
              <a:ext cx="952200" cy="952560"/>
            </a:xfrm>
            <a:prstGeom prst="ellipse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3492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148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a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411280" y="155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1835280" y="10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3276720" y="206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eat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738036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6372360" y="162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aw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651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752472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e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402" name="Content Placeholder 45109"/>
          <p:cNvGrpSpPr/>
          <p:nvPr/>
        </p:nvGrpSpPr>
        <p:grpSpPr>
          <a:xfrm>
            <a:off x="4719600" y="2133720"/>
            <a:ext cx="3667320" cy="3535200"/>
            <a:chOff x="4719600" y="2133720"/>
            <a:chExt cx="3667320" cy="3535200"/>
          </a:xfrm>
        </p:grpSpPr>
        <p:sp>
          <p:nvSpPr>
            <p:cNvPr id="403" name="_s1041"/>
            <p:cNvSpPr/>
            <p:nvPr/>
          </p:nvSpPr>
          <p:spPr>
            <a:xfrm flipH="1" flipV="1">
              <a:off x="5646600" y="3744720"/>
              <a:ext cx="453960" cy="14616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4" name="_s1042"/>
            <p:cNvSpPr/>
            <p:nvPr/>
          </p:nvSpPr>
          <p:spPr>
            <a:xfrm>
              <a:off x="4719600" y="3122640"/>
              <a:ext cx="952560" cy="95256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5" name="_s1043"/>
            <p:cNvSpPr/>
            <p:nvPr/>
          </p:nvSpPr>
          <p:spPr>
            <a:xfrm flipH="1">
              <a:off x="5994360" y="4422600"/>
              <a:ext cx="279360" cy="3859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6" name="_s1044"/>
            <p:cNvSpPr/>
            <p:nvPr/>
          </p:nvSpPr>
          <p:spPr>
            <a:xfrm>
              <a:off x="5240520" y="471636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7" name="_s1045"/>
            <p:cNvSpPr/>
            <p:nvPr/>
          </p:nvSpPr>
          <p:spPr>
            <a:xfrm>
              <a:off x="6832800" y="4422600"/>
              <a:ext cx="280800" cy="38412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8" name="_s1046"/>
            <p:cNvSpPr/>
            <p:nvPr/>
          </p:nvSpPr>
          <p:spPr>
            <a:xfrm>
              <a:off x="6916680" y="4714920"/>
              <a:ext cx="952560" cy="952560"/>
            </a:xfrm>
            <a:prstGeom prst="ellipse">
              <a:avLst/>
            </a:prstGeom>
            <a:noFill/>
            <a:ln w="2844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09" name="_s1047"/>
            <p:cNvSpPr/>
            <p:nvPr/>
          </p:nvSpPr>
          <p:spPr>
            <a:xfrm flipV="1">
              <a:off x="7005600" y="3743280"/>
              <a:ext cx="452520" cy="14760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0" name="_s1048"/>
            <p:cNvSpPr/>
            <p:nvPr/>
          </p:nvSpPr>
          <p:spPr>
            <a:xfrm>
              <a:off x="7434360" y="3119400"/>
              <a:ext cx="952560" cy="952560"/>
            </a:xfrm>
            <a:prstGeom prst="ellipse">
              <a:avLst/>
            </a:prstGeom>
            <a:noFill/>
            <a:ln w="2844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1" name="_s1049"/>
            <p:cNvSpPr/>
            <p:nvPr/>
          </p:nvSpPr>
          <p:spPr>
            <a:xfrm flipV="1">
              <a:off x="6553440" y="3085560"/>
              <a:ext cx="0" cy="476280"/>
            </a:xfrm>
            <a:prstGeom prst="line">
              <a:avLst/>
            </a:prstGeom>
            <a:ln w="93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2" name="_s1050"/>
            <p:cNvSpPr/>
            <p:nvPr/>
          </p:nvSpPr>
          <p:spPr>
            <a:xfrm>
              <a:off x="6077160" y="2133720"/>
              <a:ext cx="952200" cy="952200"/>
            </a:xfrm>
            <a:prstGeom prst="ellipse">
              <a:avLst/>
            </a:prstGeom>
            <a:noFill/>
            <a:ln w="2844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13" name="_s1051"/>
            <p:cNvSpPr/>
            <p:nvPr/>
          </p:nvSpPr>
          <p:spPr>
            <a:xfrm>
              <a:off x="6077160" y="3562200"/>
              <a:ext cx="952200" cy="952560"/>
            </a:xfrm>
            <a:prstGeom prst="ellipse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14" name="Rectangle 68"/>
          <p:cNvSpPr/>
          <p:nvPr/>
        </p:nvSpPr>
        <p:spPr>
          <a:xfrm>
            <a:off x="6154200" y="386064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ea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Rectangle 69"/>
          <p:cNvSpPr/>
          <p:nvPr/>
        </p:nvSpPr>
        <p:spPr>
          <a:xfrm>
            <a:off x="1766520" y="42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e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Text Box 70"/>
          <p:cNvSpPr/>
          <p:nvPr/>
        </p:nvSpPr>
        <p:spPr>
          <a:xfrm>
            <a:off x="2916360" y="263700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These are called </a:t>
            </a:r>
            <a:r>
              <a:rPr b="0" lang="en-GB" sz="3200" spc="-1" strike="noStrike">
                <a:solidFill>
                  <a:srgbClr val="00ffff"/>
                </a:solidFill>
                <a:latin typeface="Arial Black"/>
              </a:rPr>
              <a:t>INFINITIVE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erb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4681 C -0.03315 0.0482 -0.04097 0.04867 -0.04843 0.05075 C -0.05173 0.05168 -0.05468 0.05446 -0.05798 0.05539 C -0.06527 0.05724 -0.08072 0.05933 -0.08072 0.05956 C -0.10156 0.07138 -0.09288 0.0679 -0.10538 0.07254 C -0.11458 0.08041 -0.12447 0.0832 -0.13385 0.08992 C -0.14739 0.09965 -0.13576 0.09247 -0.14722 0.10289 C -0.15503 0.10985 -0.16354 0.11657 -0.17187 0.12259 C -0.17777 0.13163 -0.18177 0.14229 -0.18506 0.15295 C -0.18055 0.1993 -0.16475 0.23638 -0.13958 0.2723 C -0.13767 0.27508 -0.13107 0.28968 -0.12621 0.292 C -0.10868 0.30081 -0.10243 0.29919 -0.08628 0.30498 C -0.04201 0.32028 -0.08298 0.31263 -0.0125 0.31587 C 0.04619 0.31402 0.04028 0.31448 0.07882 0.3073 C 0.0856 0.30336 0.09306 0.3022 0.09966 0.29849 C 0.11129 0.292 0.09931 0.29617 0.11303 0.28968 C 0.11667 0.28806 0.12066 0.2869 0.12431 0.28551 C 0.12622 0.28482 0.13021 0.28343 0.13021 0.28366 C 0.13698 0.27787 0.1349 0.28111 0.13785 0.27462 E">
                                      <p:cBhvr>
                                        <p:cTn id="148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2 0.00486 C 0.04931 0.01993 0.03681 0.04102 0.02292 0.05214 C -0.01424 0.08111 -0.05451 0.09919 -0.09549 0.11587 C -0.12361 0.12723 -0.15347 0.14136 -0.18299 0.14693 C -0.19635 0.15249 -0.20799 0.15689 -0.2217 0.15921 C -0.2533 0.17103 -0.28264 0.17983 -0.31267 0.19629 C -0.32535 0.20324 -0.33698 0.21668 -0.34983 0.22294 C -0.36007 0.22827 -0.3691 0.23963 -0.37743 0.2438 C -0.38003 0.24496 -0.38299 0.24588 -0.38559 0.24797 C -0.39566 0.25515 -0.39878 0.26072 -0.4099 0.26419 C -0.4184 0.27138 -0.42795 0.27856 -0.43576 0.28714 C -0.43767 0.28899 -0.43924 0.29084 -0.44062 0.29316 C -0.44184 0.29525 -0.44236 0.29756 -0.44392 0.29919 C -0.44844 0.30452 -0.45208 0.30637 -0.45677 0.30985 E">
                                      <p:cBhvr>
                                        <p:cTn id="152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79 C -0.0026 0.08366 0.02136 0.11147 0.03664 0.12144 C 0.04462 0.1263 0.05261 0.13094 0.06025 0.1365 C 0.07743 0.14971 0.09393 0.16292 0.11216 0.17474 C 0.17952 0.21831 0.24375 0.26698 0.31302 0.30637 C 0.34115 0.32237 0.37118 0.3416 0.40191 0.35018 C 0.41945 0.36014 0.43959 0.36686 0.45886 0.37126 C 0.46875 0.37706 0.47813 0.37914 0.48889 0.38262 C 0.49723 0.3854 0.50573 0.38772 0.51407 0.39027 C 0.51632 0.39096 0.52084 0.39212 0.52084 0.39235 C 0.525 0.39513 0.53021 0.39629 0.53421 0.39977 C 0.55365 0.41715 0.5599 0.44728 0.56754 0.47231 C 0.5783 0.50707 0.56875 0.46698 0.57431 0.49154 C 0.57327 0.52468 0.579 0.55875 0.55764 0.58308 E">
                                      <p:cBhvr>
                                        <p:cTn id="156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16 0.02596 C -0.03142 0.04241 -0.08524 0.06767 -0.14826 0.09826 C -0.18229 0.11472 -0.21371 0.13928 -0.24653 0.15945 C -0.2842 0.18239 -0.32326 0.2058 -0.3618 0.22503 C -0.38524 0.23662 -0.41076 0.24288 -0.43472 0.25215 C -0.46024 0.26188 -0.47864 0.28436 -0.50243 0.29734 C -0.51493 0.30406 -0.52396 0.30568 -0.53802 0.30869 C -0.54114 0.31147 -0.54514 0.31263 -0.54826 0.31541 C -0.55035 0.31727 -0.55139 0.32028 -0.5533 0.32237 C -0.55486 0.32399 -0.5566 0.32538 -0.55833 0.32677 C -0.56649 0.34299 -0.56441 0.33511 -0.56684 0.34948 C -0.56597 0.36594 -0.56528 0.39745 -0.5533 0.40835 C -0.54913 0.43546 -0.53229 0.45052 -0.51597 0.46489 C -0.50764 0.48181 -0.49219 0.48529 -0.47882 0.49201 C -0.46875 0.49711 -0.45868 0.50105 -0.44826 0.50545 C -0.41962 0.50105 -0.3908 0.50568 -0.3618 0.50336 C -0.35937 0.50267 -0.3559 0.5029 -0.35347 0.50105 C -0.33594 0.48923 -0.34705 0.48969 -0.33976 0.48969 E">
                                      <p:cBhvr>
                                        <p:cTn id="160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77 0.03639 C 0.17726 0.1029 0.18438 0.19444 0.21615 0.25145 C 0.22327 0.27926 0.23803 0.30081 0.25348 0.32144 C 0.26112 0.33164 0.25226 0.32584 0.26198 0.33511 C 0.26407 0.3372 0.26667 0.33766 0.26876 0.33975 C 0.28108 0.35226 0.27014 0.34647 0.28056 0.35087 C 0.28594 0.35643 0.29028 0.36362 0.29584 0.36895 C 0.30573 0.37868 0.31754 0.3861 0.32813 0.39398 C 0.35556 0.41414 0.38386 0.43824 0.41459 0.44821 C 0.45521 0.47532 0.40417 0.44264 0.43994 0.46188 C 0.46025 0.47277 0.479 0.48529 0.50105 0.48899 C 0.53039 0.50568 0.56268 0.51124 0.5941 0.51611 C 0.60782 0.51518 0.62292 0.52028 0.6349 0.51147 C 0.63803 0.50916 0.64046 0.50522 0.64341 0.50244 C 0.65382 0.4927 0.67049 0.48227 0.67726 0.4686 C 0.68594 0.45099 0.6981 0.43569 0.70782 0.41877 C 0.7106 0.40278 0.71997 0.38587 0.72639 0.37127 C 0.72952 0.35041 0.73455 0.327 0.74167 0.308 C 0.74358 0.2883 0.74306 0.27254 0.7382 0.25377 C 0.73542 0.24288 0.72674 0.23476 0.72136 0.22642 C 0.70573 0.20232 0.67674 0.18308 0.65348 0.17451 C 0.63855 0.16315 0.62136 0.15806 0.60435 0.15412 C 0.56146 0.15597 0.49566 0.15736 0.45348 0.17683 C 0.44983 0.18424 0.45018 0.18077 0.45018 0.18587 E">
                                      <p:cBhvr>
                                        <p:cTn id="164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577 C 0.01875 0.0292 0.0224 0.04357 0.01181 0.01483 C 0.01007 0.00996 0.00504 0.00116 0.00504 0.00139 C 0.00122 -0.01878 -0.01684 -0.05331 -0.03229 -0.0598 C -0.03889 -0.06559 -0.04375 -0.07092 -0.05121 -0.07347 C -0.06684 -0.089 -0.04948 -0.07347 -0.06458 -0.08251 C -0.07517 -0.08876 -0.08351 -0.09572 -0.09496 -0.09827 C -0.11667 -0.1131 -0.09184 -0.09827 -0.12396 -0.1073 C -0.12587 -0.10777 -0.12726 -0.11078 -0.12899 -0.11194 C -0.13299 -0.11402 -0.13715 -0.11541 -0.14132 -0.11657 C -0.15868 -0.1219 -0.17344 -0.12608 -0.19167 -0.1277 C -0.23542 -0.14485 -0.28264 -0.14044 -0.32726 -0.15273 C -0.34219 -0.14971 -0.3566 -0.14462 -0.37135 -0.14137 C -0.37413 -0.13975 -0.37691 -0.13789 -0.37986 -0.13674 C -0.38281 -0.13558 -0.38559 -0.13604 -0.38819 -0.13465 C -0.3901 -0.13372 -0.39149 -0.13117 -0.3934 -0.13002 C -0.39878 -0.127 -0.40538 -0.127 -0.41042 -0.12329 C -0.42743 -0.11055 -0.44427 -0.0978 -0.46111 -0.08482 C -0.46667 -0.08065 -0.47326 -0.07671 -0.47812 -0.07115 C -0.48576 -0.06234 -0.49201 -0.05261 -0.50191 -0.04867 C -0.51719 -0.03291 -0.53507 -0.02411 -0.55104 -0.0102 C -0.55729 -0.00487 -0.56858 0.0088 -0.57639 0.01251 C -0.58958 0.03569 -0.58264 0.02526 -0.5967 0.04426 C -0.61233 0.06558 -0.58906 0.04357 -0.60521 0.0577 C -0.60781 0.07114 -0.61424 0.07972 -0.61875 0.09177 C -0.62153 0.09895 -0.62326 0.10683 -0.62552 0.11425 C -0.62812 0.12282 -0.63056 0.14136 -0.63056 0.1416 C -0.62951 0.19745 -0.63403 0.21228 -0.62378 0.25237 C -0.6224 0.26767 -0.62187 0.28227 -0.61545 0.29525 C -0.61233 0.31193 -0.61076 0.32792 -0.60868 0.34507 C -0.60816 0.34971 -0.60694 0.35874 -0.60694 0.35898 C -0.60382 0.41321 -0.60816 0.4672 -0.60521 0.52167 C -0.60486 0.52676 -0.60347 0.56014 -0.59496 0.56014 E">
                                      <p:cBhvr>
                                        <p:cTn id="16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7717E-006 C 0.00312 0.03244 0.00451 0.06489 0.00677 0.09733 C 0.00642 0.12607 0.01615 0.23267 -0.00677 0.27601 C -0.01476 0.29108 -0.02813 0.29525 -0.04063 0.29872 C -0.05035 0.2978 -0.06076 0.29988 -0.06944 0.29409 C -0.07899 0.28783 -0.08229 0.28157 -0.08993 0.27161 C -0.09549 0.26442 -0.10313 0.26048 -0.10851 0.2533 C -0.11372 0.24635 -0.11753 0.2387 -0.12378 0.23314 C -0.13333 0.2139 -0.14063 0.19258 -0.15104 0.17427 C -0.15469 0.15875 -0.14983 0.17705 -0.15764 0.15828 C -0.16094 0.15087 -0.16198 0.14137 -0.16441 0.13349 C -0.16962 0.11935 -0.175 0.10336 -0.1816 0.09061 C -0.1849 0.07648 -0.18073 0.09084 -0.19028 0.0723 C -0.19462 0.06373 -0.19618 0.05724 -0.20174 0.04982 C -0.21042 0.02619 -0.22899 0.00811 -0.2474 1.87717E-006 C -0.25035 -0.00116 -0.25295 -0.00325 -0.2559 -0.00441 C -0.25816 -0.00533 -0.26042 -0.0058 -0.26267 -0.00672 C -0.26615 -0.00811 -0.27309 -0.01136 -0.27309 -0.01113 C -0.29392 -0.00904 -0.29219 -0.00858 -0.30851 1.87717E-006 C -0.31424 0.00904 -0.32049 0.01738 -0.32552 0.02711 C -0.32813 0.03824 -0.33125 0.04843 -0.33733 0.05655 C -0.33993 0.06582 -0.34167 0.07323 -0.34583 0.08134 C -0.34792 0.09896 -0.3533 0.11981 -0.35938 0.1358 C -0.36285 0.15458 -0.36337 0.16083 -0.36788 0.17659 C -0.36997 0.18424 -0.37465 0.19907 -0.37465 0.1993 C -0.37674 0.21738 -0.38281 0.23337 -0.38646 0.25121 C -0.39167 0.27624 -0.39844 0.29872 -0.40851 0.3212 C -0.41493 0.35504 -0.43385 0.37659 -0.45938 0.38239 C -0.47517 0.37868 -0.48455 0.37682 -0.5 0.36871 C -0.50087 0.36825 -0.51615 0.36037 -0.51701 0.35967 C -0.54792 0.33186 -0.51302 0.36454 -0.53229 0.34391 C -0.53611 0.33997 -0.5441 0.33256 -0.5441 0.33279 C -0.54705 0.32143 -0.56059 0.29687 -0.56788 0.28737 C -0.57309 0.27323 -0.57604 0.25817 -0.58142 0.24426 C -0.58524 0.22364 -0.58212 0.23128 -0.58819 0.21947 C -0.58993 0.20579 -0.59201 0.19351 -0.5967 0.18099 C -0.59844 0.17126 -0.60104 0.16454 -0.60503 0.1562 C -0.60729 0.14438 -0.61719 0.11773 -0.62882 0.11773 E">
                                      <p:cBhvr>
                                        <p:cTn id="17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-0.00047 C 0.04531 0.019 0.04652 0.0394 0.04062 0.05794 C 0.03923 0.06697 0.03767 0.07578 0.03541 0.08459 C 0.03437 0.08806 0.03194 0.09525 0.03194 0.09548 C 0.02864 0.1168 0.02222 0.13789 0.01632 0.15875 C 0.01007 0.18146 0.00434 0.20116 -0.00591 0.22248 C -0.0099 0.23082 -0.02309 0.24195 -0.02657 0.24542 C -0.03282 0.25168 -0.03855 0.25956 -0.04549 0.26512 C -0.06389 0.27972 -0.08316 0.29432 -0.10382 0.30544 C -0.11181 0.31008 -0.12014 0.31402 -0.12796 0.31819 C -0.13299 0.32074 -0.14514 0.32167 -0.14514 0.3219 C -0.14827 0.3212 -0.16042 0.32074 -0.1658 0.31819 C -0.17917 0.31124 -0.1908 0.30104 -0.20348 0.29339 C -0.20938 0.28575 -0.21754 0.28018 -0.22257 0.27207 C -0.22674 0.26535 -0.22882 0.25747 -0.23264 0.25098 C -0.2474 0.22549 -0.23386 0.25353 -0.24306 0.23685 C -0.25278 0.2197 -0.26129 0.20255 -0.26719 0.18378 C -0.27118 0.15458 -0.27553 0.10266 -0.25868 0.07555 C -0.25382 0.05909 -0.24705 0.04148 -0.23264 0.03128 C -0.22223 0.01506 -0.20348 0.00765 -0.18803 -0.00232 C -0.18247 -0.00556 -0.17553 -0.00464 -0.16928 -0.00556 C -0.16407 -0.00464 -0.15886 -0.00394 -0.15365 -0.00232 C -0.15174 -0.00139 -0.15035 0.00023 -0.14862 0.00139 C -0.13924 0.00602 -0.12934 0.01159 -0.11928 0.01367 C -0.10434 0.0241 -0.09046 0.03383 -0.07466 0.0438 C -0.0698 0.04681 -0.06684 0.05214 -0.06268 0.05631 C -0.05643 0.06234 -0.0474 0.06836 -0.04184 0.07555 C -0.02796 0.09409 -0.01893 0.11309 -0.01268 0.1358 C -0.01042 0.14484 -0.00487 0.15319 -0.00243 0.16246 C 0.00052 0.17358 0.00243 0.18493 0.00607 0.19583 C 0.00677 0.20255 0.00677 0.20904 0.00798 0.21529 C 0.00833 0.21831 0.01076 0.22109 0.01128 0.2241 C 0.02204 0.29316 0.00937 0.23615 0.01822 0.27393 C 0.02031 0.29664 0.02239 0.31935 0.02864 0.34113 C 0.01163 0.37126 0.02309 0.34646 0.01996 0.41367 C 0.01944 0.42619 0.01718 0.43847 0.01632 0.45075 C 0.01684 0.46558 0.01996 0.49108 0.01996 0.50938 E">
                                      <p:cBhvr>
                                        <p:cTn id="17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44 C 0.00364 0.00464 0.04704 0.0058 0.0618 0.00881 C 0.09409 0.01553 0.12673 0.02596 0.1585 0.03592 C 0.17586 0.04125 0.19149 0.05122 0.2092 0.05423 C 0.24322 0.06929 0.27691 0.08853 0.31267 0.09247 C 0.34027 0.10383 0.36927 0.10869 0.39739 0.11773 C 0.40191 0.11912 0.40642 0.12121 0.41093 0.12213 C 0.41892 0.12376 0.43472 0.12677 0.43472 0.127 C 0.45468 0.13557 0.47482 0.13928 0.49566 0.14253 C 0.5092 0.14855 0.52031 0.14994 0.53472 0.15157 C 0.55451 0.16223 0.57795 0.16431 0.59913 0.16756 C 0.62777 0.17636 0.65243 0.1708 0.68385 0.16964 C 0.68229 0.18262 0.68211 0.19189 0.67361 0.19907 C 0.66927 0.20811 0.66336 0.21298 0.6585 0.22179 C 0.65434 0.23824 0.64687 0.25354 0.64149 0.26929 C 0.63767 0.28042 0.63559 0.29201 0.63125 0.30313 C 0.62847 0.31912 0.62673 0.33326 0.61944 0.34647 C 0.61614 0.36338 0.61406 0.3803 0.6092 0.39629 C 0.60711 0.41205 0.60434 0.42851 0.60086 0.4438 C 0.59635 0.49154 0.59305 0.54067 0.57708 0.58424 C 0.57656 0.58795 0.57604 0.59189 0.57534 0.5956 C 0.57482 0.59792 0.57482 0.60394 0.57361 0.60232 C 0.56788 0.59467 0.56649 0.58007 0.56354 0.57057 C 0.56006 0.55921 0.55572 0.54763 0.55156 0.53673 C 0.54809 0.51194 0.5526 0.54067 0.54479 0.5073 C 0.53854 0.48019 0.53246 0.454 0.52447 0.42781 C 0.52256 0.41089 0.51822 0.38192 0.51267 0.36686 C 0.51024 0.35133 0.50694 0.33627 0.50243 0.32167 C 0.5 0.29641 0.49479 0.2832 0.48888 0.26026 C 0.48472 0.24427 0.4835 0.22642 0.47881 0.21043 C 0.47256 0.18911 0.47048 0.19004 0.46684 0.17196 C 0.46302 0.15296 0.4592 0.13604 0.45329 0.11773 C 0.45121 0.11147 0.44774 0.10591 0.44652 0.09942 C 0.44409 0.08668 0.4368 0.06049 0.43125 0.0496 C 0.42899 0.04009 0.42795 0.03152 0.42447 0.02248 C 0.41944 -0.00695 0.39635 -0.0292 0.37534 -0.03638 C 0.36927 -0.04195 0.35503 -0.04774 0.35503 -0.04751 C 0.35052 -0.04681 0.34062 -0.04658 0.33645 -0.04102 C 0.33524 -0.0394 0.33541 -0.03638 0.33472 -0.03407 C 0.33263 -0.02804 0.32795 -0.01599 0.32795 -0.01576 C 0.32395 0.02016 0.32222 0.05608 0.31944 0.09247 C 0.31857 0.10313 0.31788 0.11402 0.31597 0.12445 C 0.31371 0.1365 0.3092 0.1606 0.3092 0.16084 C 0.30625 0.19421 0.30121 0.22874 0.29236 0.26026 C 0.28958 0.27022 0.29027 0.28227 0.28732 0.29201 C 0.28368 0.30383 0.27517 0.31518 0.27031 0.32607 C 0.26753 0.3321 0.26527 0.34114 0.2618 0.34647 C 0.26059 0.34855 0.25816 0.34902 0.25677 0.35087 C 0.24895 0.3613 0.24236 0.37474 0.23472 0.38494 C 0.22986 0.39143 0.225 0.39328 0.21944 0.39838 C 0.20399 0.41275 0.18871 0.42573 0.17204 0.43685 C 0.15763 0.44658 0.14409 0.45748 0.12795 0.46188 C 0.11006 0.47347 0.08506 0.48019 0.06527 0.48227 C 0.04826 0.48413 0.01441 0.48668 0.01441 0.48691 C -0.00035 0.48598 -0.01494 0.48575 -0.02969 0.48436 C -0.04046 0.48343 -0.06198 0.47995 -0.06198 0.48019 C -0.06789 0.47602 -0.07448 0.47184 -0.08056 0.4686 C -0.09306 0.46211 -0.08143 0.47138 -0.09584 0.46188 C -0.09775 0.46072 -0.09896 0.4584 -0.10087 0.45724 C -0.10417 0.45539 -0.11112 0.45284 -0.11112 0.45307 C -0.1099 0.42943 -0.11424 0.40927 -0.09584 0.40301 C -0.08438 0.39235 -0.07535 0.39629 -0.06025 0.39629 E">
                                      <p:cBhvr>
                                        <p:cTn id="18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114 C 0.02205 0.10405 0.04219 0.13557 0.0599 0.16848 C 0.07709 0.20023 0.09236 0.23453 0.1125 0.2635 C 0.1441 0.30869 0.18056 0.34762 0.21077 0.39467 C 0.21702 0.4044 0.22066 0.41622 0.22604 0.42642 C 0.2474 0.46605 0.21736 0.40394 0.23455 0.44009 C 0.23959 0.46628 0.23177 0.43036 0.24132 0.45817 C 0.2474 0.47578 0.24931 0.49455 0.25834 0.51008 C 0.26059 0.52306 0.26268 0.5358 0.26511 0.54855 C 0.26563 0.55156 0.26684 0.55759 0.26684 0.55782 C 0.26945 0.59119 0.27691 0.63198 0.26164 0.66164 C 0.25938 0.67416 0.25573 0.67856 0.24983 0.68899 C 0.23924 0.70776 0.22778 0.72283 0.21077 0.72955 C 0.19167 0.74716 0.18125 0.72236 0.16684 0.70915 C 0.15556 0.673 0.17292 0.72584 0.1566 0.68667 C 0.15539 0.68389 0.15591 0.68041 0.15486 0.67763 C 0.15295 0.67277 0.14809 0.66396 0.14809 0.66419 C 0.14566 0.65098 0.14341 0.638 0.13959 0.62549 C 0.13802 0.59884 0.13768 0.57288 0.14132 0.54646 C 0.14289 0.53557 0.14757 0.52537 0.14983 0.51471 C 0.15504 0.49015 0.16389 0.46628 0.17361 0.44449 C 0.17969 0.43105 0.18351 0.41321 0.19219 0.40162 C 0.20452 0.38517 0.21389 0.3657 0.22604 0.34948 C 0.23334 0.33974 0.24219 0.33163 0.24983 0.32236 C 0.2625 0.30683 0.27292 0.2825 0.28716 0.27045 C 0.29271 0.25863 0.30052 0.24612 0.3092 0.2387 C 0.31389 0.22897 0.31893 0.22039 0.32604 0.21367 C 0.34132 0.18331 0.32466 0.21298 0.33959 0.19351 C 0.34688 0.18378 0.34393 0.17891 0.3566 0.17311 C 0.37032 0.16686 0.35226 0.1759 0.36684 0.16616 C 0.37657 0.1599 0.36719 0.16848 0.37691 0.16176 C 0.38802 0.15411 0.37518 0.15921 0.38872 0.15504 C 0.39462 0.14716 0.39723 0.14832 0.40243 0.14137 E">
                                      <p:cBhvr>
                                        <p:cTn id="184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5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at is an INFINITIVE verb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dictionary vers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The ‘title’ of the ver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It means ‘TO DO’ something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755640" y="3573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826920" y="335772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79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crea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79280" y="2405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drink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179280" y="3111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cr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179280" y="3816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uff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79280" y="4522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slee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179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bi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2411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241128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llor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241128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dorm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4284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figh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4284720" y="2405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h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4284720" y="3111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kis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Text Box 26"/>
          <p:cNvSpPr/>
          <p:nvPr/>
        </p:nvSpPr>
        <p:spPr>
          <a:xfrm>
            <a:off x="4284720" y="3816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ope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Text Box 27"/>
          <p:cNvSpPr/>
          <p:nvPr/>
        </p:nvSpPr>
        <p:spPr>
          <a:xfrm>
            <a:off x="4284720" y="4522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writ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Text Box 28"/>
          <p:cNvSpPr/>
          <p:nvPr/>
        </p:nvSpPr>
        <p:spPr>
          <a:xfrm>
            <a:off x="4284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o punish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el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Text Box 30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o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Text Box 31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Text Box 33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astig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Text Box 34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0" y="83664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These are the Spanish </a:t>
            </a:r>
            <a:r>
              <a:rPr b="0" lang="en-GB" sz="2000" spc="-1" strike="noStrike">
                <a:solidFill>
                  <a:srgbClr val="fe1f08"/>
                </a:solidFill>
                <a:latin typeface="Arial Black"/>
              </a:rPr>
              <a:t>INFINITIVES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as found in the dictionary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t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to use infinitives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5148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¿Quier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42920" y="38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gust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4789440" y="3141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encant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97164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Prefier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755640" y="170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Me gustarí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565308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Odi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Text Box 25"/>
          <p:cNvSpPr/>
          <p:nvPr/>
        </p:nvSpPr>
        <p:spPr>
          <a:xfrm>
            <a:off x="154620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Voy 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1403280" y="321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Suel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4861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Después 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1041480" y="450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No pued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 Box 29"/>
          <p:cNvSpPr/>
          <p:nvPr/>
        </p:nvSpPr>
        <p:spPr>
          <a:xfrm>
            <a:off x="500544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Tengo qu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514836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 Black"/>
              </a:rPr>
              <a:t>Antes 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Text Box 31"/>
          <p:cNvSpPr/>
          <p:nvPr/>
        </p:nvSpPr>
        <p:spPr>
          <a:xfrm>
            <a:off x="241128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Text Box 32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Text Box 33"/>
          <p:cNvSpPr/>
          <p:nvPr/>
        </p:nvSpPr>
        <p:spPr>
          <a:xfrm>
            <a:off x="241128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llor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Text Box 34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Text Box 35"/>
          <p:cNvSpPr/>
          <p:nvPr/>
        </p:nvSpPr>
        <p:spPr>
          <a:xfrm>
            <a:off x="241128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dorm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Text Box 36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Text Box 37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ele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o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astig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Text Box 42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9"/>
          <p:cNvSpPr/>
          <p:nvPr/>
        </p:nvSpPr>
        <p:spPr>
          <a:xfrm>
            <a:off x="241128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Text Box 30"/>
          <p:cNvSpPr/>
          <p:nvPr/>
        </p:nvSpPr>
        <p:spPr>
          <a:xfrm>
            <a:off x="241128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2411280" y="31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practic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241128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2411280" y="45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v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Text Box 34"/>
          <p:cNvSpPr/>
          <p:nvPr/>
        </p:nvSpPr>
        <p:spPr>
          <a:xfrm>
            <a:off x="241128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viv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Text Box 35"/>
          <p:cNvSpPr/>
          <p:nvPr/>
        </p:nvSpPr>
        <p:spPr>
          <a:xfrm>
            <a:off x="6516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escuch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Text Box 36"/>
          <p:cNvSpPr/>
          <p:nvPr/>
        </p:nvSpPr>
        <p:spPr>
          <a:xfrm>
            <a:off x="651672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Text Box 37"/>
          <p:cNvSpPr/>
          <p:nvPr/>
        </p:nvSpPr>
        <p:spPr>
          <a:xfrm>
            <a:off x="651672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Text Box 38"/>
          <p:cNvSpPr/>
          <p:nvPr/>
        </p:nvSpPr>
        <p:spPr>
          <a:xfrm>
            <a:off x="651672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com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6516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Text Box 40"/>
          <p:cNvSpPr/>
          <p:nvPr/>
        </p:nvSpPr>
        <p:spPr>
          <a:xfrm>
            <a:off x="651672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1f08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Oval 118"/>
          <p:cNvSpPr/>
          <p:nvPr/>
        </p:nvSpPr>
        <p:spPr>
          <a:xfrm>
            <a:off x="826920" y="1773360"/>
            <a:ext cx="142920" cy="14292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Oval 119"/>
          <p:cNvSpPr/>
          <p:nvPr/>
        </p:nvSpPr>
        <p:spPr>
          <a:xfrm>
            <a:off x="826920" y="2781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Oval 120"/>
          <p:cNvSpPr/>
          <p:nvPr/>
        </p:nvSpPr>
        <p:spPr>
          <a:xfrm>
            <a:off x="826920" y="3789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Oval 121"/>
          <p:cNvSpPr/>
          <p:nvPr/>
        </p:nvSpPr>
        <p:spPr>
          <a:xfrm>
            <a:off x="826920" y="4797360"/>
            <a:ext cx="142920" cy="142920"/>
          </a:xfrm>
          <a:prstGeom prst="ellipse">
            <a:avLst/>
          </a:prstGeom>
          <a:solidFill>
            <a:srgbClr val="ffe103"/>
          </a:solidFill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Oval 133"/>
          <p:cNvSpPr/>
          <p:nvPr/>
        </p:nvSpPr>
        <p:spPr>
          <a:xfrm>
            <a:off x="3780000" y="1773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Oval 134"/>
          <p:cNvSpPr/>
          <p:nvPr/>
        </p:nvSpPr>
        <p:spPr>
          <a:xfrm>
            <a:off x="3780000" y="2781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Oval 135"/>
          <p:cNvSpPr/>
          <p:nvPr/>
        </p:nvSpPr>
        <p:spPr>
          <a:xfrm>
            <a:off x="3780000" y="3789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Oval 136"/>
          <p:cNvSpPr/>
          <p:nvPr/>
        </p:nvSpPr>
        <p:spPr>
          <a:xfrm>
            <a:off x="3780000" y="4797360"/>
            <a:ext cx="1425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Oval 137"/>
          <p:cNvSpPr/>
          <p:nvPr/>
        </p:nvSpPr>
        <p:spPr>
          <a:xfrm>
            <a:off x="6588000" y="1700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Oval 138"/>
          <p:cNvSpPr/>
          <p:nvPr/>
        </p:nvSpPr>
        <p:spPr>
          <a:xfrm>
            <a:off x="6588000" y="2708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Oval 139"/>
          <p:cNvSpPr/>
          <p:nvPr/>
        </p:nvSpPr>
        <p:spPr>
          <a:xfrm>
            <a:off x="6588000" y="3716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Oval 140"/>
          <p:cNvSpPr/>
          <p:nvPr/>
        </p:nvSpPr>
        <p:spPr>
          <a:xfrm>
            <a:off x="6588000" y="472428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Text Box 141"/>
          <p:cNvSpPr/>
          <p:nvPr/>
        </p:nvSpPr>
        <p:spPr>
          <a:xfrm>
            <a:off x="1042920" y="17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escuch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Text Box 142"/>
          <p:cNvSpPr/>
          <p:nvPr/>
        </p:nvSpPr>
        <p:spPr>
          <a:xfrm>
            <a:off x="1042920" y="270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practic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Text Box 143"/>
          <p:cNvSpPr/>
          <p:nvPr/>
        </p:nvSpPr>
        <p:spPr>
          <a:xfrm>
            <a:off x="104292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grit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Text Box 144"/>
          <p:cNvSpPr/>
          <p:nvPr/>
        </p:nvSpPr>
        <p:spPr>
          <a:xfrm>
            <a:off x="97164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e103"/>
                </a:solidFill>
                <a:latin typeface="Arial Black"/>
              </a:rPr>
              <a:t>besa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Text Box 145"/>
          <p:cNvSpPr/>
          <p:nvPr/>
        </p:nvSpPr>
        <p:spPr>
          <a:xfrm>
            <a:off x="392436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com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Text Box 146"/>
          <p:cNvSpPr/>
          <p:nvPr/>
        </p:nvSpPr>
        <p:spPr>
          <a:xfrm>
            <a:off x="3924360" y="2708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mord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Text Box 147"/>
          <p:cNvSpPr/>
          <p:nvPr/>
        </p:nvSpPr>
        <p:spPr>
          <a:xfrm>
            <a:off x="399564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beb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Text Box 148"/>
          <p:cNvSpPr/>
          <p:nvPr/>
        </p:nvSpPr>
        <p:spPr>
          <a:xfrm>
            <a:off x="399564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 Black"/>
              </a:rPr>
              <a:t>v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Text Box 149"/>
          <p:cNvSpPr/>
          <p:nvPr/>
        </p:nvSpPr>
        <p:spPr>
          <a:xfrm>
            <a:off x="673272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suf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Text Box 150"/>
          <p:cNvSpPr/>
          <p:nvPr/>
        </p:nvSpPr>
        <p:spPr>
          <a:xfrm>
            <a:off x="673272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escrib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Text Box 151"/>
          <p:cNvSpPr/>
          <p:nvPr/>
        </p:nvSpPr>
        <p:spPr>
          <a:xfrm>
            <a:off x="680400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abr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Text Box 152"/>
          <p:cNvSpPr/>
          <p:nvPr/>
        </p:nvSpPr>
        <p:spPr>
          <a:xfrm>
            <a:off x="6732720" y="256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 Black"/>
              </a:rPr>
              <a:t>vivi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Line 153"/>
          <p:cNvSpPr/>
          <p:nvPr/>
        </p:nvSpPr>
        <p:spPr>
          <a:xfrm flipH="1" flipV="1">
            <a:off x="2411280" y="1844280"/>
            <a:ext cx="4176720" cy="71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Line 154"/>
          <p:cNvSpPr/>
          <p:nvPr/>
        </p:nvSpPr>
        <p:spPr>
          <a:xfrm flipH="1" flipV="1">
            <a:off x="1979280" y="2997000"/>
            <a:ext cx="576360" cy="36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Line 155"/>
          <p:cNvSpPr/>
          <p:nvPr/>
        </p:nvSpPr>
        <p:spPr>
          <a:xfrm flipH="1">
            <a:off x="1476000" y="1989000"/>
            <a:ext cx="1079640" cy="180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Line 156"/>
          <p:cNvSpPr/>
          <p:nvPr/>
        </p:nvSpPr>
        <p:spPr>
          <a:xfrm flipH="1">
            <a:off x="1692000" y="3429000"/>
            <a:ext cx="5040360" cy="1295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Line 157"/>
          <p:cNvSpPr/>
          <p:nvPr/>
        </p:nvSpPr>
        <p:spPr>
          <a:xfrm flipH="1" flipV="1">
            <a:off x="4643280" y="2133360"/>
            <a:ext cx="1944720" cy="194292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Line 158"/>
          <p:cNvSpPr/>
          <p:nvPr/>
        </p:nvSpPr>
        <p:spPr>
          <a:xfrm flipV="1">
            <a:off x="2843280" y="3068640"/>
            <a:ext cx="1081080" cy="79200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Line 159"/>
          <p:cNvSpPr/>
          <p:nvPr/>
        </p:nvSpPr>
        <p:spPr>
          <a:xfrm flipH="1" flipV="1">
            <a:off x="4788000" y="4076280"/>
            <a:ext cx="1800000" cy="12970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Line 160"/>
          <p:cNvSpPr/>
          <p:nvPr/>
        </p:nvSpPr>
        <p:spPr>
          <a:xfrm>
            <a:off x="3419640" y="4724280"/>
            <a:ext cx="576000" cy="14472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Line 161"/>
          <p:cNvSpPr/>
          <p:nvPr/>
        </p:nvSpPr>
        <p:spPr>
          <a:xfrm flipV="1">
            <a:off x="6804000" y="1844280"/>
            <a:ext cx="0" cy="2879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Line 162"/>
          <p:cNvSpPr/>
          <p:nvPr/>
        </p:nvSpPr>
        <p:spPr>
          <a:xfrm>
            <a:off x="7236000" y="2637000"/>
            <a:ext cx="0" cy="1008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Line 163"/>
          <p:cNvSpPr/>
          <p:nvPr/>
        </p:nvSpPr>
        <p:spPr>
          <a:xfrm flipV="1">
            <a:off x="3492360" y="2924280"/>
            <a:ext cx="3240360" cy="25207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Line 164"/>
          <p:cNvSpPr/>
          <p:nvPr/>
        </p:nvSpPr>
        <p:spPr>
          <a:xfrm>
            <a:off x="2843280" y="2708280"/>
            <a:ext cx="3960720" cy="2089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5395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e1f08"/>
                </a:solidFill>
                <a:uFillTx/>
                <a:latin typeface="Arial Black"/>
              </a:rPr>
              <a:t>Every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Spanish Infinitive belongs to one of these groups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Text Box 167"/>
          <p:cNvSpPr/>
          <p:nvPr/>
        </p:nvSpPr>
        <p:spPr>
          <a:xfrm>
            <a:off x="900000" y="907920"/>
            <a:ext cx="1800360" cy="3988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-a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Text Box 168"/>
          <p:cNvSpPr/>
          <p:nvPr/>
        </p:nvSpPr>
        <p:spPr>
          <a:xfrm>
            <a:off x="3492360" y="907920"/>
            <a:ext cx="1800360" cy="398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-er</a:t>
            </a:r>
            <a:r>
              <a:rPr b="0" lang="en-GB" sz="20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Arial Black"/>
              </a:rPr>
              <a:t>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Text Box 169"/>
          <p:cNvSpPr/>
          <p:nvPr/>
        </p:nvSpPr>
        <p:spPr>
          <a:xfrm>
            <a:off x="6227640" y="907920"/>
            <a:ext cx="18003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 Black"/>
              </a:rPr>
              <a:t>-ir Verb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1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5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77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4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7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70" fill="hold"/>
                                        <p:tgtEl>
                                          <p:spTgt spid="4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5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77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770" fill="hold"/>
                                        <p:tgtEl>
                                          <p:spTgt spid="4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7:29:59Z</dcterms:created>
  <dc:creator>Lynne</dc:creator>
  <dc:description/>
  <dc:language>en-US</dc:language>
  <cp:lastModifiedBy>SnowFamily</cp:lastModifiedBy>
  <dcterms:modified xsi:type="dcterms:W3CDTF">2012-07-15T23:51:49Z</dcterms:modified>
  <cp:revision>64</cp:revision>
  <dc:subject/>
  <dc:title>REGULAR VERBS</dc:title>
</cp:coreProperties>
</file>